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A60-9117-46C0-93EB-7F33C08D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EA5-A1CC-45E1-B781-C9EBF075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CA5-C3BA-4DBB-9DAF-BE08BC86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749D-D192-4308-8790-C5E8642A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AE51-F3D6-4EB6-B48C-67BE42DF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EC6D-2DB6-4FBF-908C-A717EC6F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86D5-F289-4B78-9361-E1CE54E7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5EB1-5B9E-4301-A827-2935085E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B9FC-A1C5-4E27-AEA5-C4DDC008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DE50-9A64-4E1F-8C94-2E43FE65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35A9-56A0-44DF-B0CB-67A79139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600-843A-41C5-AB73-8DF846C9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4B01-DECF-4C21-9BE9-C7092503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5F67-52A5-4523-9FC9-80754679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12F6-19C4-4EA6-BF6C-0AAFA8E1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818E-7BDD-4D72-AE27-5C798EDA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6F2D-7968-4D26-B706-33F63CC6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7E2-14EE-4ED9-9544-C29832E7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4FF-A24B-48BA-82B5-F41866FF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260-D40E-45CC-A1EB-00B21699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F29-7F46-4DF4-B778-C9666CA3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951-B4A5-4E35-88CC-5AE90ABC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C67-0153-4867-ABC2-8C8DA266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F62-F217-4AE7-859E-59C03063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840"/>
            <a:chOff x="0" y="4206960"/>
            <a:chExt cx="9166320" cy="285084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b6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4872-25A3-4124-89E9-F10C8B9783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6477120" y="6172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Comic Sans MS"/>
              </a:rPr>
              <a:t>IHG Fall ‘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" name="logo" descr=""/>
          <p:cNvPicPr/>
          <p:nvPr/>
        </p:nvPicPr>
        <p:blipFill>
          <a:blip r:embed="rId3"/>
          <a:stretch/>
        </p:blipFill>
        <p:spPr>
          <a:xfrm>
            <a:off x="0" y="6137280"/>
            <a:ext cx="452520" cy="720720"/>
          </a:xfrm>
          <a:prstGeom prst="rect">
            <a:avLst/>
          </a:prstGeom>
          <a:ln w="0">
            <a:noFill/>
          </a:ln>
        </p:spPr>
      </p:pic>
      <p:sp>
        <p:nvSpPr>
          <p:cNvPr id="35" name=""/>
          <p:cNvSpPr/>
          <p:nvPr/>
        </p:nvSpPr>
        <p:spPr>
          <a:xfrm>
            <a:off x="6324480" y="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East Carol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533520"/>
            <a:ext cx="9177480" cy="6524280"/>
            <a:chOff x="0" y="533520"/>
            <a:chExt cx="9177480" cy="6524280"/>
          </a:xfrm>
        </p:grpSpPr>
        <p:sp>
          <p:nvSpPr>
            <p:cNvPr id="73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5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440" y="6626160"/>
              <a:ext cx="9132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7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eb6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2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F331-3983-4E3C-8495-933C273BE2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6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9.xml"/><Relationship Id="rId3" Type="http://schemas.openxmlformats.org/officeDocument/2006/relationships/slide" Target="slide48.xml"/><Relationship Id="rId4" Type="http://schemas.openxmlformats.org/officeDocument/2006/relationships/slide" Target="slide77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slide" Target="slide69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5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" Target="slide74.xml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9.xml"/><Relationship Id="rId2" Type="http://schemas.openxmlformats.org/officeDocument/2006/relationships/slide" Target="slide100.xml"/><Relationship Id="rId3" Type="http://schemas.openxmlformats.org/officeDocument/2006/relationships/slide" Target="slide101.xml"/><Relationship Id="rId4" Type="http://schemas.openxmlformats.org/officeDocument/2006/relationships/slide" Target="slide99.xml"/><Relationship Id="rId5" Type="http://schemas.openxmlformats.org/officeDocument/2006/relationships/slide" Target="slide98.xml"/><Relationship Id="rId6" Type="http://schemas.openxmlformats.org/officeDocument/2006/relationships/slide" Target="slide99.xml"/><Relationship Id="rId7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96.xml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6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hemical Bonding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99"/>
                </a:solidFill>
                <a:latin typeface="Arial"/>
              </a:rPr>
              <a:t>The Ionic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2160" y="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Chem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Comic Sans MS"/>
              </a:rPr>
              <a:t>IHG Fall ‘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2362320"/>
            <a:ext cx="7162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f an atom gains electrons then it has more negative charges than positive charges (protons), so it has a negative char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943600" y="4952880"/>
            <a:ext cx="1905120" cy="1191240"/>
            <a:chOff x="5943600" y="4952880"/>
            <a:chExt cx="1905120" cy="1191240"/>
          </a:xfrm>
        </p:grpSpPr>
        <p:sp>
          <p:nvSpPr>
            <p:cNvPr id="205" name=""/>
            <p:cNvSpPr/>
            <p:nvPr/>
          </p:nvSpPr>
          <p:spPr>
            <a:xfrm>
              <a:off x="6934320" y="55627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24840" y="53341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77120" y="53341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5720" y="53341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24840" y="556272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34320" y="57913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720" y="59436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77120" y="59436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24840" y="579132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43600" y="495288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819520" y="5334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53341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334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5334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55627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57913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7400" y="5943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5943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57913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571500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1" name="">
            <a:hlinkClick r:id="rId1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33520" y="22860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harge on the iron ion and on the nitrate i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590920" y="56386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1676520" y="2133720"/>
            <a:ext cx="5333760" cy="30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OW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1371600" y="403848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t's Right !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8" name=""/>
          <p:cNvSpPr/>
          <p:nvPr/>
        </p:nvSpPr>
        <p:spPr>
          <a:xfrm>
            <a:off x="533520" y="1828800"/>
            <a:ext cx="6629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NO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form Fe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80880" y="2590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contains one iron ion and 3 nitrate 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>
            <a:hlinkClick r:id="" action="ppaction://hlinkshowjump?jump=endshow"/>
          </p:cNvPr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0000cc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019920" y="1600200"/>
            <a:ext cx="1904760" cy="1191240"/>
            <a:chOff x="6019920" y="1600200"/>
            <a:chExt cx="1904760" cy="1191240"/>
          </a:xfrm>
        </p:grpSpPr>
        <p:sp>
          <p:nvSpPr>
            <p:cNvPr id="229" name=""/>
            <p:cNvSpPr/>
            <p:nvPr/>
          </p:nvSpPr>
          <p:spPr>
            <a:xfrm>
              <a:off x="7010280" y="221004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00800" y="1981440"/>
              <a:ext cx="76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53080" y="198144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198144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00800" y="2210040"/>
              <a:ext cx="7560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10280" y="243864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81680" y="259092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53080" y="259092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0800" y="2438640"/>
              <a:ext cx="7560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19920" y="160020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895480" y="198108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19810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19810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22096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24382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25909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25909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236232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9718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equation shows the gain of 1 electron (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 by Br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44956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w what if we put them togethe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943600" y="3048120"/>
            <a:ext cx="1905120" cy="1191240"/>
            <a:chOff x="5943600" y="3048120"/>
            <a:chExt cx="1905120" cy="1191240"/>
          </a:xfrm>
        </p:grpSpPr>
        <p:sp>
          <p:nvSpPr>
            <p:cNvPr id="254" name=""/>
            <p:cNvSpPr/>
            <p:nvPr/>
          </p:nvSpPr>
          <p:spPr>
            <a:xfrm>
              <a:off x="6934320" y="365796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24840" y="34293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77120" y="342936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05720" y="342936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24840" y="365796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34320" y="388656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05720" y="403884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77120" y="403884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24840" y="388656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43600" y="304812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819520" y="34290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34290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34290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34290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365760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38862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57400" y="40384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388620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43400" y="3809880"/>
            <a:ext cx="1371600" cy="1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22096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259092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672800" y="1981080"/>
            <a:ext cx="1774800" cy="1191240"/>
            <a:chOff x="4672800" y="1981080"/>
            <a:chExt cx="1774800" cy="1191240"/>
          </a:xfrm>
        </p:grpSpPr>
        <p:sp>
          <p:nvSpPr>
            <p:cNvPr id="278" name=""/>
            <p:cNvSpPr/>
            <p:nvPr/>
          </p:nvSpPr>
          <p:spPr>
            <a:xfrm>
              <a:off x="5029200" y="2362320"/>
              <a:ext cx="91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72800" y="1981080"/>
              <a:ext cx="17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629400" y="2362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4572000"/>
            <a:ext cx="6705720" cy="1312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nce there is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 each side of the equation they cancel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352680" y="3428640"/>
            <a:ext cx="762120" cy="76212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086600" y="2437920"/>
            <a:ext cx="762120" cy="76212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76520" y="6019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v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" y="4572000"/>
            <a:ext cx="7848720" cy="99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172200" y="2666880"/>
            <a:ext cx="1905120" cy="1191240"/>
            <a:chOff x="6172200" y="2666880"/>
            <a:chExt cx="1905120" cy="1191240"/>
          </a:xfrm>
        </p:grpSpPr>
        <p:sp>
          <p:nvSpPr>
            <p:cNvPr id="290" name=""/>
            <p:cNvSpPr/>
            <p:nvPr/>
          </p:nvSpPr>
          <p:spPr>
            <a:xfrm>
              <a:off x="7162920" y="32767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53440" y="30481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05720" y="30481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4320" y="30481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53440" y="327672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62920" y="35053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34320" y="36576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05720" y="36576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53440" y="350532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72200" y="266688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048120" y="3048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30481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57400" y="3048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0" y="3048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32767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5053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57400" y="3657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35053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342900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1828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00400" y="2209680"/>
            <a:ext cx="1371600" cy="1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0" y="19810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581280" y="3048120"/>
            <a:ext cx="762120" cy="76176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315200" y="2057040"/>
            <a:ext cx="762120" cy="76212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901400" y="1600200"/>
            <a:ext cx="1774800" cy="1191240"/>
            <a:chOff x="4901400" y="1600200"/>
            <a:chExt cx="1774800" cy="1191240"/>
          </a:xfrm>
        </p:grpSpPr>
        <p:sp>
          <p:nvSpPr>
            <p:cNvPr id="317" name=""/>
            <p:cNvSpPr/>
            <p:nvPr/>
          </p:nvSpPr>
          <p:spPr>
            <a:xfrm>
              <a:off x="5257800" y="1981440"/>
              <a:ext cx="91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01400" y="1600200"/>
              <a:ext cx="17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219320" y="419112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4724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23880" y="50292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47242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38280" y="4724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66880" y="4724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49528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95480" y="51814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66880" y="5334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5334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0" y="51814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4800600"/>
            <a:ext cx="60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510552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748760" y="4343400"/>
            <a:ext cx="1774800" cy="1191240"/>
            <a:chOff x="4748760" y="4343400"/>
            <a:chExt cx="1774800" cy="1191240"/>
          </a:xfrm>
        </p:grpSpPr>
        <p:sp>
          <p:nvSpPr>
            <p:cNvPr id="333" name=""/>
            <p:cNvSpPr/>
            <p:nvPr/>
          </p:nvSpPr>
          <p:spPr>
            <a:xfrm>
              <a:off x="5105520" y="47246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48760" y="4343400"/>
              <a:ext cx="17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6400800" y="48006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934320" y="4343400"/>
            <a:ext cx="1904760" cy="1191240"/>
            <a:chOff x="6934320" y="4343400"/>
            <a:chExt cx="1904760" cy="1191240"/>
          </a:xfrm>
        </p:grpSpPr>
        <p:sp>
          <p:nvSpPr>
            <p:cNvPr id="337" name=""/>
            <p:cNvSpPr/>
            <p:nvPr/>
          </p:nvSpPr>
          <p:spPr>
            <a:xfrm>
              <a:off x="7924680" y="495324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4724640"/>
              <a:ext cx="76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67480" y="472464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96080" y="472464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15200" y="4953240"/>
              <a:ext cx="7560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518184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96080" y="533412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67480" y="533412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15200" y="5181840"/>
              <a:ext cx="7560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34320" y="434340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2133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33720" y="21337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1460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23623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5909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14600" y="27432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0" y="27432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33720" y="25909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47920" y="2209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251460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96480" y="1752480"/>
            <a:ext cx="1774800" cy="1191240"/>
            <a:chOff x="4596480" y="1752480"/>
            <a:chExt cx="1774800" cy="1191240"/>
          </a:xfrm>
        </p:grpSpPr>
        <p:sp>
          <p:nvSpPr>
            <p:cNvPr id="363" name=""/>
            <p:cNvSpPr/>
            <p:nvPr/>
          </p:nvSpPr>
          <p:spPr>
            <a:xfrm>
              <a:off x="4953240" y="21337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96480" y="1752480"/>
              <a:ext cx="17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6172200" y="2209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781680" y="1752480"/>
            <a:ext cx="1905120" cy="1191240"/>
            <a:chOff x="6781680" y="1752480"/>
            <a:chExt cx="1905120" cy="1191240"/>
          </a:xfrm>
        </p:grpSpPr>
        <p:sp>
          <p:nvSpPr>
            <p:cNvPr id="367" name=""/>
            <p:cNvSpPr/>
            <p:nvPr/>
          </p:nvSpPr>
          <p:spPr>
            <a:xfrm>
              <a:off x="7772400" y="23623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62920" y="21337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15200" y="21337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43800" y="21337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62920" y="236232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72400" y="25909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43800" y="27432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15200" y="27432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62920" y="259092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81680" y="175248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33520" y="3124080"/>
            <a:ext cx="838188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lectron was exchanged between the sodium and the bromine satisfying their need to have filled shell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525780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379" name=""/>
          <p:cNvSpPr/>
          <p:nvPr/>
        </p:nvSpPr>
        <p:spPr>
          <a:xfrm>
            <a:off x="3733920" y="5410080"/>
            <a:ext cx="3886200" cy="703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ctet ru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2133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33720" y="21337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1460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33720" y="23623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5909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14600" y="27432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0" y="27432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25909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2209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251460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596480" y="1752480"/>
            <a:ext cx="1774800" cy="1191240"/>
            <a:chOff x="4596480" y="1752480"/>
            <a:chExt cx="1774800" cy="1191240"/>
          </a:xfrm>
        </p:grpSpPr>
        <p:sp>
          <p:nvSpPr>
            <p:cNvPr id="396" name=""/>
            <p:cNvSpPr/>
            <p:nvPr/>
          </p:nvSpPr>
          <p:spPr>
            <a:xfrm>
              <a:off x="4953240" y="21337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96480" y="1752480"/>
              <a:ext cx="17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6172200" y="2209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781680" y="1752480"/>
            <a:ext cx="1905120" cy="1191240"/>
            <a:chOff x="6781680" y="1752480"/>
            <a:chExt cx="1905120" cy="1191240"/>
          </a:xfrm>
        </p:grpSpPr>
        <p:sp>
          <p:nvSpPr>
            <p:cNvPr id="400" name=""/>
            <p:cNvSpPr/>
            <p:nvPr/>
          </p:nvSpPr>
          <p:spPr>
            <a:xfrm>
              <a:off x="7772400" y="23623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62920" y="21337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15200" y="21337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43800" y="21337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62920" y="236232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72400" y="25909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27432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15200" y="27432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62920" y="259092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81680" y="175248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80880" y="3124080"/>
            <a:ext cx="845820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fact the drive for this chemical reaction to happen is so strong that it is a pretty violent reac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415" name="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257800" y="1066680"/>
            <a:ext cx="3276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905120" y="2438280"/>
            <a:ext cx="8380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952880" y="2438280"/>
            <a:ext cx="91440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14600" y="37339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904760" y="4038480"/>
            <a:ext cx="533160" cy="152640"/>
          </a:xfrm>
          <a:prstGeom prst="line">
            <a:avLst/>
          </a:prstGeom>
          <a:ln w="3816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4191120"/>
            <a:ext cx="1447560" cy="0"/>
          </a:xfrm>
          <a:prstGeom prst="line">
            <a:avLst/>
          </a:prstGeom>
          <a:ln w="3816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62520" y="4495680"/>
            <a:ext cx="75960" cy="228600"/>
          </a:xfrm>
          <a:prstGeom prst="line">
            <a:avLst/>
          </a:prstGeom>
          <a:ln w="3816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05720" y="31240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28800" y="2971800"/>
            <a:ext cx="4038480" cy="3141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se group numbers tell how many valence electrons each element h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6728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466" name="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05120" y="2514600"/>
            <a:ext cx="3886200" cy="3750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tals tend to lose electrons to achieve an electron configuration like the noble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00200" y="3048120"/>
            <a:ext cx="45720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3048120"/>
            <a:ext cx="91440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05720" y="31240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86728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512" name="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05120" y="2514600"/>
            <a:ext cx="3962160" cy="2239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oup IA forms +1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1371240" y="3200400"/>
            <a:ext cx="685800" cy="76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905120" y="3962520"/>
            <a:ext cx="3962160" cy="2239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oup IIA forms +2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1752480" y="4495320"/>
            <a:ext cx="45720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905120" y="5546880"/>
            <a:ext cx="3962160" cy="1312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oup IIIA metals form +3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486400" y="3809880"/>
            <a:ext cx="53352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38080" y="2895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19320" y="4114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91320" y="33526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31240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564" name="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05120" y="2514600"/>
            <a:ext cx="3886200" cy="3750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onmetals tend to gain electrons to achieve an electron configuration like the noble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334120" y="2895480"/>
            <a:ext cx="106668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05720" y="31240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86728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2952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Ionic compounds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re made from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6000" spc="-1" strike="noStrike">
                <a:solidFill>
                  <a:srgbClr val="969696"/>
                </a:solidFill>
                <a:latin typeface="Times New Roman"/>
              </a:rPr>
              <a:t>metal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nd a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nonmetal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609" name="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05120" y="2514600"/>
            <a:ext cx="3962160" cy="2239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oup VA forms  -3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2819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638680" y="3048120"/>
            <a:ext cx="129564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5120" y="3962520"/>
            <a:ext cx="3962160" cy="2239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oup VIA forms -2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5791320" y="3733560"/>
            <a:ext cx="160020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905120" y="5546880"/>
            <a:ext cx="3962160" cy="1312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oup VIIA forms -1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96080" y="3276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3276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58000" y="3276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6728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5486400" y="3809880"/>
            <a:ext cx="236232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661" name="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676520" y="2514600"/>
            <a:ext cx="4190760" cy="2574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roup IIIA and IVA nonmetals don’t generally form 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05720" y="31240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5486040" y="2819520"/>
            <a:ext cx="68580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76520" y="4419720"/>
            <a:ext cx="4190760" cy="1739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roup IVA - VIIA metals behavior more like transition met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334120" y="4495320"/>
            <a:ext cx="106668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6728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708" name="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05720" y="31240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914400" y="1676520"/>
            <a:ext cx="754380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nsition metals form positive ions and can have more than one possible char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67080" y="3200400"/>
            <a:ext cx="76320" cy="68580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486400" y="2971800"/>
            <a:ext cx="3657600" cy="3018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Rules for the charges on transition metals are beyond the scope of this class.  There are a few you will have to memor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2" name=""/>
          <p:cNvSpPr/>
          <p:nvPr/>
        </p:nvSpPr>
        <p:spPr>
          <a:xfrm>
            <a:off x="1066680" y="22096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have looked at an atom losing one electron and an atom gaining one electron, but what about other charg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6" name=""/>
          <p:cNvSpPr/>
          <p:nvPr/>
        </p:nvSpPr>
        <p:spPr>
          <a:xfrm>
            <a:off x="1143000" y="2133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98108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76720" y="22096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29000" y="22096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581280" y="22096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33920" y="23623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581280" y="28195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20040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143000" y="2971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981080" y="3276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419720" y="8380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dium has one electron to give up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19720" y="2133720"/>
            <a:ext cx="4495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ur (Group VIA) has 6 valence electrons, so it needs two more electron to make an oct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133720" y="2514600"/>
            <a:ext cx="114300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295280" y="4038480"/>
            <a:ext cx="3124440" cy="2531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need a second Na to provide the other electr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133720" y="2819520"/>
            <a:ext cx="12952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5" name=""/>
          <p:cNvSpPr/>
          <p:nvPr/>
        </p:nvSpPr>
        <p:spPr>
          <a:xfrm>
            <a:off x="3124080" y="20574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962520" y="23623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86400" y="21337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91320" y="21337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943600" y="22860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943600" y="2514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1320" y="274320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410080" y="23623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124080" y="28954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62520" y="320040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114800" y="2438280"/>
            <a:ext cx="1143000" cy="152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4114800" y="2819520"/>
            <a:ext cx="13716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2362320"/>
            <a:ext cx="75960" cy="7596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0080" y="2514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62520" y="3200400"/>
            <a:ext cx="7596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62720" y="274320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2310480" y="4648320"/>
            <a:ext cx="1774800" cy="1191240"/>
            <a:chOff x="2310480" y="4648320"/>
            <a:chExt cx="1774800" cy="1191240"/>
          </a:xfrm>
        </p:grpSpPr>
        <p:sp>
          <p:nvSpPr>
            <p:cNvPr id="793" name=""/>
            <p:cNvSpPr/>
            <p:nvPr/>
          </p:nvSpPr>
          <p:spPr>
            <a:xfrm>
              <a:off x="2667240" y="502956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310480" y="4648320"/>
              <a:ext cx="17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1905120" y="50292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91120" y="51055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5105520" y="4648320"/>
            <a:ext cx="2057400" cy="1191240"/>
            <a:chOff x="5105520" y="4648320"/>
            <a:chExt cx="2057400" cy="1191240"/>
          </a:xfrm>
        </p:grpSpPr>
        <p:sp>
          <p:nvSpPr>
            <p:cNvPr id="798" name=""/>
            <p:cNvSpPr/>
            <p:nvPr/>
          </p:nvSpPr>
          <p:spPr>
            <a:xfrm>
              <a:off x="5562720" y="50292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715360" y="502920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867640" y="50292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19920" y="518148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19920" y="541008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67640" y="563868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86760" y="525780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86760" y="541008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639040" y="563868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05520" y="464832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5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4571640" y="3352680"/>
            <a:ext cx="304920" cy="1295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838080"/>
            <a:ext cx="4114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omine only needs one electron to have its oct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352680" y="2286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05320" y="228600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733920" y="228600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352680" y="2514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274320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733920" y="28954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05320" y="28954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62520" y="24382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429000" y="3200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1280" y="32004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809880" y="32004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29000" y="34290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038480" y="3657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09880" y="38098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81280" y="38098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38480" y="33526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572000" y="28195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lcium has two electrons to give up so it can have a noble gas configu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990720" y="2590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752480" y="28195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752480" y="3048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95280" y="4038480"/>
            <a:ext cx="342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need a second Br to take the other electr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1905120" y="2743200"/>
            <a:ext cx="1447560" cy="76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28800" y="3124080"/>
            <a:ext cx="152388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9" name=""/>
          <p:cNvSpPr/>
          <p:nvPr/>
        </p:nvSpPr>
        <p:spPr>
          <a:xfrm>
            <a:off x="548640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638680" y="15238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867280" y="15238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486400" y="17524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5880" y="19810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86728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095880" y="16765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62720" y="24382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71500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94360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62720" y="26668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172200" y="28954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943600" y="3048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715000" y="3048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172200" y="25909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124080" y="1828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886200" y="20574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4038480" y="1981080"/>
            <a:ext cx="1447920" cy="76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2362320"/>
            <a:ext cx="152388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886200" y="2057400"/>
            <a:ext cx="76320" cy="7632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946160" y="4191120"/>
            <a:ext cx="1995840" cy="1191240"/>
            <a:chOff x="1946160" y="4191120"/>
            <a:chExt cx="1995840" cy="1191240"/>
          </a:xfrm>
        </p:grpSpPr>
        <p:sp>
          <p:nvSpPr>
            <p:cNvPr id="863" name=""/>
            <p:cNvSpPr/>
            <p:nvPr/>
          </p:nvSpPr>
          <p:spPr>
            <a:xfrm>
              <a:off x="2286000" y="45720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C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46160" y="4191120"/>
              <a:ext cx="199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6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4572000" y="4572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809880" y="46483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4343040" y="2971800"/>
            <a:ext cx="3049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4876920" y="4191120"/>
            <a:ext cx="1904760" cy="1191240"/>
            <a:chOff x="4876920" y="4191120"/>
            <a:chExt cx="1904760" cy="1191240"/>
          </a:xfrm>
        </p:grpSpPr>
        <p:sp>
          <p:nvSpPr>
            <p:cNvPr id="869" name=""/>
            <p:cNvSpPr/>
            <p:nvPr/>
          </p:nvSpPr>
          <p:spPr>
            <a:xfrm>
              <a:off x="5867280" y="480096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257800" y="4572360"/>
              <a:ext cx="76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410080" y="457236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638680" y="457236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57800" y="4800960"/>
              <a:ext cx="7560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867280" y="502956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638680" y="518184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10080" y="518184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257800" y="5029560"/>
              <a:ext cx="7560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876920" y="41911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5562720" y="28954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486400" y="19810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981080" y="1447920"/>
            <a:ext cx="60962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ccff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Na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Polyatomic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>
            <a:hlinkClick r:id="" action="ppaction://hlinkshowjump?jump=endshow"/>
          </p:cNvPr>
          <p:cNvSpPr/>
          <p:nvPr/>
        </p:nvSpPr>
        <p:spPr>
          <a:xfrm>
            <a:off x="769608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0000cc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>
            <a:hlinkClick r:id="rId1" action="ppaction://hlinksldjump"/>
          </p:cNvPr>
          <p:cNvSpPr/>
          <p:nvPr/>
        </p:nvSpPr>
        <p:spPr>
          <a:xfrm>
            <a:off x="70102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80880" y="1447920"/>
            <a:ext cx="769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ionic compounds like NaBr, there are an equal number of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eld together by electrostatic attractio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971800" y="3809880"/>
            <a:ext cx="5715000" cy="2531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lectrostatic attraction is the attraction between the positive and negative charges of the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1447920"/>
            <a:ext cx="60962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Na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Polyatomic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1981080" y="1523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1981080" y="2438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198108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4" action="ppaction://hlinksldjump"/>
          </p:cNvPr>
          <p:cNvSpPr/>
          <p:nvPr/>
        </p:nvSpPr>
        <p:spPr>
          <a:xfrm>
            <a:off x="1981080" y="42670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5105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oose 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80880" y="1523880"/>
            <a:ext cx="6858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The ions are arranged in patterns for that the positive and negative charges are balanced. 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057400" y="3581280"/>
            <a:ext cx="5867280" cy="2410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When zillions of these ions are packed together in these patterns they form crystals that have the same pattern 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38080" y="6095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your textbook for examples of these cryst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19320" y="1905120"/>
            <a:ext cx="83808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257800" y="16765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373392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can build the pattern that sodium ions and bromide ions foll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4724280" y="2666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819520" y="2590920"/>
            <a:ext cx="83808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886200" y="4343400"/>
            <a:ext cx="83808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52680" y="2895480"/>
            <a:ext cx="1752840" cy="17528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09880" y="2514600"/>
            <a:ext cx="83844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895480" y="4114800"/>
            <a:ext cx="83844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876920" y="3809880"/>
            <a:ext cx="838080" cy="8384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334120" y="13716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are six N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urrounding the Br</a:t>
            </a:r>
            <a:r>
              <a:rPr b="0" lang="en-US" sz="3600" spc="-1" strike="noStrike" baseline="42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57200" y="5410080"/>
            <a:ext cx="8305920" cy="64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on each side, one above and one bel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3276720" y="35053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657600" y="19051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981080" y="2362320"/>
            <a:ext cx="175284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505320" y="3352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95480" y="2057400"/>
            <a:ext cx="175284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514600" y="39625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91120" y="342900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029200" y="1371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are six Br</a:t>
            </a:r>
            <a:r>
              <a:rPr b="0" lang="en-US" sz="3600" spc="-1" strike="noStrike" baseline="42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urrounding the N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7200" y="5638680"/>
            <a:ext cx="8229600" cy="64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on each side, one above and one bel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066680" y="25909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 we can put the two patterns together to make one patter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990720" y="1828800"/>
            <a:ext cx="3961800" cy="3809880"/>
            <a:chOff x="990720" y="1828800"/>
            <a:chExt cx="3961800" cy="3809880"/>
          </a:xfrm>
        </p:grpSpPr>
        <p:sp>
          <p:nvSpPr>
            <p:cNvPr id="933" name=""/>
            <p:cNvSpPr/>
            <p:nvPr/>
          </p:nvSpPr>
          <p:spPr>
            <a:xfrm>
              <a:off x="2286000" y="342900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666880" y="182880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90720" y="22860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514600" y="3276360"/>
              <a:ext cx="83772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04760" y="198108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523880" y="388620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200400" y="335268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4724280" y="1219320"/>
            <a:ext cx="2895840" cy="2743200"/>
            <a:chOff x="4724280" y="1219320"/>
            <a:chExt cx="2895840" cy="2743200"/>
          </a:xfrm>
        </p:grpSpPr>
        <p:sp>
          <p:nvSpPr>
            <p:cNvPr id="941" name=""/>
            <p:cNvSpPr/>
            <p:nvPr/>
          </p:nvSpPr>
          <p:spPr>
            <a:xfrm>
              <a:off x="4724280" y="1295280"/>
              <a:ext cx="83844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137160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791320" y="312408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257800" y="16002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00600" y="28195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781680" y="2514600"/>
              <a:ext cx="83844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1447920" y="1828800"/>
            <a:ext cx="3961800" cy="3809880"/>
            <a:chOff x="1447920" y="1828800"/>
            <a:chExt cx="3961800" cy="3809880"/>
          </a:xfrm>
        </p:grpSpPr>
        <p:sp>
          <p:nvSpPr>
            <p:cNvPr id="951" name=""/>
            <p:cNvSpPr/>
            <p:nvPr/>
          </p:nvSpPr>
          <p:spPr>
            <a:xfrm>
              <a:off x="2743200" y="342900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124080" y="182880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47920" y="22860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971800" y="3276360"/>
              <a:ext cx="83772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361960" y="198108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81080" y="388620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657600" y="335268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4191120" y="1295280"/>
            <a:ext cx="2895120" cy="2743200"/>
            <a:chOff x="4191120" y="1295280"/>
            <a:chExt cx="2895120" cy="2743200"/>
          </a:xfrm>
        </p:grpSpPr>
        <p:sp>
          <p:nvSpPr>
            <p:cNvPr id="959" name=""/>
            <p:cNvSpPr/>
            <p:nvPr/>
          </p:nvSpPr>
          <p:spPr>
            <a:xfrm>
              <a:off x="4191120" y="137124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95880" y="1447560"/>
              <a:ext cx="83772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257800" y="3200040"/>
              <a:ext cx="83772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724280" y="167616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81480" y="1295280"/>
              <a:ext cx="83772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267080" y="2895480"/>
              <a:ext cx="83772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48160" y="259056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5410080" y="4572000"/>
            <a:ext cx="304812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w we can add a few more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2514600" y="1523880"/>
            <a:ext cx="838080" cy="8384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752480" y="1828800"/>
            <a:ext cx="3962520" cy="3809880"/>
            <a:chOff x="1752480" y="1828800"/>
            <a:chExt cx="3962520" cy="3809880"/>
          </a:xfrm>
        </p:grpSpPr>
        <p:sp>
          <p:nvSpPr>
            <p:cNvPr id="972" name=""/>
            <p:cNvSpPr/>
            <p:nvPr/>
          </p:nvSpPr>
          <p:spPr>
            <a:xfrm>
              <a:off x="3048120" y="34290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429000" y="18288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752480" y="2286000"/>
              <a:ext cx="175284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276720" y="327636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666880" y="1981080"/>
              <a:ext cx="175284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86000" y="38862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962520" y="335268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4495680" y="1219320"/>
            <a:ext cx="83844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572000" y="1143000"/>
            <a:ext cx="2819520" cy="2743200"/>
            <a:chOff x="4572000" y="1143000"/>
            <a:chExt cx="2819520" cy="2743200"/>
          </a:xfrm>
        </p:grpSpPr>
        <p:sp>
          <p:nvSpPr>
            <p:cNvPr id="981" name=""/>
            <p:cNvSpPr/>
            <p:nvPr/>
          </p:nvSpPr>
          <p:spPr>
            <a:xfrm>
              <a:off x="6400800" y="129528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562720" y="304776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029200" y="152388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86400" y="114300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572000" y="274320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53080" y="2438280"/>
              <a:ext cx="83844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5410080" y="2590920"/>
            <a:ext cx="175284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905120" y="3733920"/>
            <a:ext cx="83808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914400" y="228600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743200" y="1600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1981080" y="1905120"/>
            <a:ext cx="3962520" cy="3809880"/>
            <a:chOff x="1981080" y="1905120"/>
            <a:chExt cx="3962520" cy="3809880"/>
          </a:xfrm>
        </p:grpSpPr>
        <p:sp>
          <p:nvSpPr>
            <p:cNvPr id="994" name=""/>
            <p:cNvSpPr/>
            <p:nvPr/>
          </p:nvSpPr>
          <p:spPr>
            <a:xfrm>
              <a:off x="3276720" y="350532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657600" y="190512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981080" y="2362320"/>
              <a:ext cx="175284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05320" y="335268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95480" y="2057400"/>
              <a:ext cx="175284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514600" y="396252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91120" y="34290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4724280" y="1295280"/>
            <a:ext cx="838440" cy="8384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800600" y="1219320"/>
            <a:ext cx="2819520" cy="2743200"/>
            <a:chOff x="4800600" y="1219320"/>
            <a:chExt cx="2819520" cy="2743200"/>
          </a:xfrm>
        </p:grpSpPr>
        <p:sp>
          <p:nvSpPr>
            <p:cNvPr id="1003" name=""/>
            <p:cNvSpPr/>
            <p:nvPr/>
          </p:nvSpPr>
          <p:spPr>
            <a:xfrm>
              <a:off x="6629400" y="137160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791320" y="312408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57800" y="16002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800600" y="28195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81680" y="2514600"/>
              <a:ext cx="83844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5638680" y="2666880"/>
            <a:ext cx="1752840" cy="17528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133720" y="3809880"/>
            <a:ext cx="838080" cy="8384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143000" y="23623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04920" y="5181480"/>
            <a:ext cx="8610480" cy="12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</a:rPr>
              <a:t>There are 9 sodium ions and 9 bromide ions displayed here.</a:t>
            </a: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Should the formula be Na</a:t>
            </a:r>
            <a:r>
              <a:rPr b="0" lang="en-US" sz="3200" spc="-1" strike="noStrike" baseline="-25000">
                <a:solidFill>
                  <a:srgbClr val="0066cc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Br</a:t>
            </a:r>
            <a:r>
              <a:rPr b="0" lang="en-US" sz="3200" spc="-1" strike="noStrike" baseline="-25000">
                <a:solidFill>
                  <a:srgbClr val="0066cc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696080" y="19051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sodium ion is behind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7391520" y="3276720"/>
            <a:ext cx="30456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219320" y="18288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 ionic compounds, we use formula uni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523880" y="358128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mula unit refers to the smallest unit of the ionic compou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1447920"/>
            <a:ext cx="60962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ccff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Na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Polyatomic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62120" y="160020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ingle sodium ion is not attracted to any one bromide ion more than any other bromide ion that surrounds 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95280" y="4038480"/>
            <a:ext cx="754380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t it only takes one sodium ion and one bromide ion to have a neutral compou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20574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 the formula unit for sodium bromide is NaB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52680" y="4114800"/>
            <a:ext cx="83844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191120" y="365760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124080" y="1981080"/>
            <a:ext cx="838440" cy="8384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962520" y="1523880"/>
            <a:ext cx="1752480" cy="17528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752480" y="3048120"/>
            <a:ext cx="6324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we show the ions we show the charg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u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hen we write the formula unit, NaBr, we do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rite the charg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581280" y="1828800"/>
            <a:ext cx="990720" cy="990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66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572000" y="14479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828800" y="14479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62120" y="33526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takes two bromide ions to make a neutral compound with a calcium 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447920" y="4952880"/>
            <a:ext cx="6095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 the formula unit is Ca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" y="15238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I have aluminum and sulfu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85800" y="25146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uminum is a metal in Group IIIA, so its charge is +3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371600" y="419112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ur is a nonmetal in Group VIA, so its charge is -2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35268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562720" y="15238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638680" y="15238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867280" y="15238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86400" y="17524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95880" y="19810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86728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5880" y="16765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38680" y="24382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71500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94360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562720" y="26668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172200" y="28954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943600" y="3048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715000" y="3048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172200" y="25909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124080" y="1828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886200" y="20574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4038480" y="1981080"/>
            <a:ext cx="1447920" cy="76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3962520" y="2209680"/>
            <a:ext cx="1600200" cy="76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86200" y="2057400"/>
            <a:ext cx="76320" cy="7632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2098080" y="4724280"/>
            <a:ext cx="1995840" cy="1191240"/>
            <a:chOff x="2098080" y="4724280"/>
            <a:chExt cx="1995840" cy="1191240"/>
          </a:xfrm>
        </p:grpSpPr>
        <p:sp>
          <p:nvSpPr>
            <p:cNvPr id="1080" name=""/>
            <p:cNvSpPr/>
            <p:nvPr/>
          </p:nvSpPr>
          <p:spPr>
            <a:xfrm>
              <a:off x="2459520" y="5082120"/>
              <a:ext cx="96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Al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098080" y="4724280"/>
              <a:ext cx="199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60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4724280" y="510552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962520" y="5181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4343040" y="3962520"/>
            <a:ext cx="22860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5029200" y="4724280"/>
            <a:ext cx="2057400" cy="1191240"/>
            <a:chOff x="5029200" y="4724280"/>
            <a:chExt cx="2057400" cy="1191240"/>
          </a:xfrm>
        </p:grpSpPr>
        <p:sp>
          <p:nvSpPr>
            <p:cNvPr id="1086" name=""/>
            <p:cNvSpPr/>
            <p:nvPr/>
          </p:nvSpPr>
          <p:spPr>
            <a:xfrm>
              <a:off x="6019560" y="5333760"/>
              <a:ext cx="10332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562360" y="5105160"/>
              <a:ext cx="104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638680" y="5105160"/>
              <a:ext cx="10332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867280" y="5105160"/>
              <a:ext cx="10332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486400" y="5333760"/>
              <a:ext cx="10296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019560" y="5562360"/>
              <a:ext cx="10332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867280" y="5714640"/>
              <a:ext cx="103320" cy="7488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638680" y="5714640"/>
              <a:ext cx="103320" cy="7488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486400" y="5562360"/>
              <a:ext cx="10296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029200" y="472428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5400" spc="-1" strike="noStrike" baseline="4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5562720" y="28954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86400" y="19810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0" y="1371600"/>
            <a:ext cx="2209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We can use the model to figure this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352680" y="2438280"/>
            <a:ext cx="76320" cy="7632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352680" y="33526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124080" y="2743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886200" y="29718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886200" y="32004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886200" y="3200400"/>
            <a:ext cx="7632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886200" y="2971800"/>
            <a:ext cx="76320" cy="7632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352680" y="3352680"/>
            <a:ext cx="7632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638680" y="33526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715000" y="33526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943600" y="33526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35812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172200" y="38098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943600" y="39625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715000" y="39625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172200" y="35053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562720" y="38098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581280" y="2514600"/>
            <a:ext cx="19814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038480" y="304812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38480" y="3276720"/>
            <a:ext cx="144792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505320" y="3505320"/>
            <a:ext cx="213336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76520" y="510552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143000" y="167652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 is an easier way to use the mode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2250720" y="3352680"/>
            <a:ext cx="1995840" cy="1191240"/>
            <a:chOff x="2250720" y="3352680"/>
            <a:chExt cx="1995840" cy="1191240"/>
          </a:xfrm>
        </p:grpSpPr>
        <p:sp>
          <p:nvSpPr>
            <p:cNvPr id="1126" name=""/>
            <p:cNvSpPr/>
            <p:nvPr/>
          </p:nvSpPr>
          <p:spPr>
            <a:xfrm>
              <a:off x="2612160" y="3710520"/>
              <a:ext cx="96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Al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250720" y="3352680"/>
              <a:ext cx="199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60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6553080" y="411480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5181480" y="3352680"/>
            <a:ext cx="2057400" cy="1191240"/>
            <a:chOff x="5181480" y="3352680"/>
            <a:chExt cx="2057400" cy="1191240"/>
          </a:xfrm>
        </p:grpSpPr>
        <p:sp>
          <p:nvSpPr>
            <p:cNvPr id="1130" name=""/>
            <p:cNvSpPr/>
            <p:nvPr/>
          </p:nvSpPr>
          <p:spPr>
            <a:xfrm>
              <a:off x="6171840" y="3962160"/>
              <a:ext cx="10332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14640" y="3733560"/>
              <a:ext cx="104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90960" y="3733560"/>
              <a:ext cx="10332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19560" y="3733560"/>
              <a:ext cx="10332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638680" y="3962160"/>
              <a:ext cx="10296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171840" y="4190760"/>
              <a:ext cx="10332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019560" y="4343040"/>
              <a:ext cx="103320" cy="7488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790960" y="4343040"/>
              <a:ext cx="103320" cy="7488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638680" y="4190760"/>
              <a:ext cx="10296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181480" y="335268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5400" spc="-1" strike="noStrike" baseline="4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3505320" y="411480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505320" y="3581280"/>
            <a:ext cx="761760" cy="609840"/>
          </a:xfrm>
          <a:prstGeom prst="ellipse">
            <a:avLst/>
          </a:prstGeom>
          <a:noFill/>
          <a:ln w="38160">
            <a:solidFill>
              <a:srgbClr val="330099"/>
            </a:solidFill>
            <a:miter/>
          </a:ln>
          <a:effectLst>
            <a:outerShdw dist="17819" dir="27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400800" y="3505320"/>
            <a:ext cx="762120" cy="60948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  <a:effectLst>
            <a:outerShdw dist="17819" dir="27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038480" y="4038480"/>
            <a:ext cx="2590920" cy="927360"/>
          </a:xfrm>
          <a:custGeom>
            <a:avLst/>
            <a:gdLst/>
            <a:ahLst/>
            <a:rect l="l" t="t" r="r" b="b"/>
            <a:pathLst>
              <a:path w="1584" h="584">
                <a:moveTo>
                  <a:pt x="0" y="0"/>
                </a:moveTo>
                <a:cubicBezTo>
                  <a:pt x="276" y="236"/>
                  <a:pt x="552" y="472"/>
                  <a:pt x="816" y="528"/>
                </a:cubicBezTo>
                <a:cubicBezTo>
                  <a:pt x="1080" y="584"/>
                  <a:pt x="1448" y="368"/>
                  <a:pt x="1584" y="336"/>
                </a:cubicBezTo>
              </a:path>
            </a:pathLst>
          </a:custGeom>
          <a:noFill/>
          <a:ln w="38160">
            <a:solidFill>
              <a:srgbClr val="330099"/>
            </a:solidFill>
            <a:round/>
            <a:tailEnd len="med" type="triangle" w="med"/>
          </a:ln>
          <a:effectLst>
            <a:outerShdw dist="17819" dir="27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886200" y="3111480"/>
            <a:ext cx="2743200" cy="1384200"/>
          </a:xfrm>
          <a:custGeom>
            <a:avLst/>
            <a:gdLst/>
            <a:ahLst/>
            <a:rect l="l" t="t" r="r" b="b"/>
            <a:pathLst>
              <a:path w="1680" h="824">
                <a:moveTo>
                  <a:pt x="1680" y="200"/>
                </a:moveTo>
                <a:cubicBezTo>
                  <a:pt x="1484" y="100"/>
                  <a:pt x="1288" y="0"/>
                  <a:pt x="1008" y="104"/>
                </a:cubicBezTo>
                <a:cubicBezTo>
                  <a:pt x="728" y="208"/>
                  <a:pt x="168" y="704"/>
                  <a:pt x="0" y="824"/>
                </a:cubicBezTo>
              </a:path>
            </a:pathLst>
          </a:custGeom>
          <a:noFill/>
          <a:ln w="38160">
            <a:solidFill>
              <a:srgbClr val="ff3399"/>
            </a:solidFill>
            <a:round/>
            <a:tailEnd len="med" type="triangle" w="med"/>
          </a:ln>
          <a:effectLst>
            <a:outerShdw dist="17819" dir="27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752480" y="5029200"/>
            <a:ext cx="5639040" cy="1396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 the formula unit for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luminum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lfide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981080" y="1447920"/>
            <a:ext cx="60962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ccff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Na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Polyatomic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>
            <a:hlinkClick r:id="" action="ppaction://hlinkshowjump?jump=endshow"/>
          </p:cNvPr>
          <p:cNvSpPr/>
          <p:nvPr/>
        </p:nvSpPr>
        <p:spPr>
          <a:xfrm>
            <a:off x="769608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0000cc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>
            <a:hlinkClick r:id="rId1" action="ppaction://hlinksldjump"/>
          </p:cNvPr>
          <p:cNvSpPr/>
          <p:nvPr/>
        </p:nvSpPr>
        <p:spPr>
          <a:xfrm>
            <a:off x="70102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19810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nary ionic compound is an ionic compound that has only two types of ions present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600200" y="4191120"/>
            <a:ext cx="617220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 maybe more than two ions presents, but only two types pres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066680" y="2209680"/>
            <a:ext cx="762012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a binary ionic compound because there are only calcium ions and bromide ions, it doesn’t matter that there three total 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2438280"/>
            <a:ext cx="8305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an atom (or group of atoms) that has a electrical charge as a result of the loss or gain of electr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3" name=""/>
          <p:cNvSpPr/>
          <p:nvPr/>
        </p:nvSpPr>
        <p:spPr>
          <a:xfrm>
            <a:off x="0" y="1828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les for naming binary ionic compou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5800" y="3124080"/>
            <a:ext cx="8077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SzPct val="75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ull name of the metal is giv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SzPct val="75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eginning of the nonmetal name is used followed by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-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8" name=""/>
          <p:cNvSpPr/>
          <p:nvPr/>
        </p:nvSpPr>
        <p:spPr>
          <a:xfrm>
            <a:off x="304920" y="16765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Br is sodium brom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85800" y="2514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 is the metal and its name is sodiu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143000" y="342900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 is the nonmetal and its name is bromine.  We take the first part that as the suffix,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rom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add th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id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828800" y="56386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Br - sodium brom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5" name=""/>
          <p:cNvSpPr/>
          <p:nvPr/>
        </p:nvSpPr>
        <p:spPr>
          <a:xfrm>
            <a:off x="0" y="1676520"/>
            <a:ext cx="5638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calcium brom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62120" y="2971800"/>
            <a:ext cx="7696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09480" y="2590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 is the metal and its name is calciu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143000" y="342900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 is the nonmetal and its name is bromine.  We take the first part that as the suffix,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rom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add th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id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905120" y="5638680"/>
            <a:ext cx="5638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calcium brom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3" name=""/>
          <p:cNvSpPr/>
          <p:nvPr/>
        </p:nvSpPr>
        <p:spPr>
          <a:xfrm>
            <a:off x="380880" y="167652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ice there nothing in the name that indicates how many calcium ions or bromide ions there are in the compou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219320" y="36576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because the charge on the calcium ion and on the bromide ions doesn’t chan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143000" y="5638680"/>
            <a:ext cx="7238880" cy="703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ir charges are always the sa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9" name=""/>
          <p:cNvSpPr/>
          <p:nvPr/>
        </p:nvSpPr>
        <p:spPr>
          <a:xfrm>
            <a:off x="380880" y="18288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arge of at least one of the ions can be determined from the periodic ta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0" y="342900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191" name=""/>
          <p:cNvSpPr/>
          <p:nvPr/>
        </p:nvSpPr>
        <p:spPr>
          <a:xfrm>
            <a:off x="1676520" y="4419720"/>
            <a:ext cx="5943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roup number of Group IA, IIA, IIIA metals is the same as the charg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5" name=""/>
          <p:cNvSpPr/>
          <p:nvPr/>
        </p:nvSpPr>
        <p:spPr>
          <a:xfrm>
            <a:off x="304920" y="10666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s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228600" y="19051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197" name=""/>
          <p:cNvSpPr/>
          <p:nvPr/>
        </p:nvSpPr>
        <p:spPr>
          <a:xfrm>
            <a:off x="1371600" y="31240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oup VA nonmetals are -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oup VIA nonmetals are -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oup VIIA nonmetals are -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57200" y="19051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I have aluminum and sulfu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85800" y="28954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uminum is a metal in Group IIIA, so its charge is +3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371600" y="457200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ur is a nonmetal in Group VIA, so its charge is -2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6" name=""/>
          <p:cNvSpPr/>
          <p:nvPr/>
        </p:nvSpPr>
        <p:spPr>
          <a:xfrm>
            <a:off x="228600" y="1600200"/>
            <a:ext cx="6324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rmula unit is A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523880" y="297180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structures and formulas for how to figure this one ou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1" name=""/>
          <p:cNvSpPr/>
          <p:nvPr/>
        </p:nvSpPr>
        <p:spPr>
          <a:xfrm>
            <a:off x="228600" y="1600200"/>
            <a:ext cx="6324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rmula unit is A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57200" y="27432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 is the metal and its name is alumin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066680" y="35812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is the nonmetal and its name is sulfur.  We take the first part that as the suffix,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ulf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add th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id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752480" y="5638680"/>
            <a:ext cx="6324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aluminum sulf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8" name=""/>
          <p:cNvSpPr/>
          <p:nvPr/>
        </p:nvSpPr>
        <p:spPr>
          <a:xfrm>
            <a:off x="685800" y="213372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ition metals can have more than one char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152280" y="990720"/>
            <a:ext cx="2971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20" name=""/>
          <p:cNvSpPr/>
          <p:nvPr/>
        </p:nvSpPr>
        <p:spPr>
          <a:xfrm>
            <a:off x="3505320" y="281952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 there is an extra step to name the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838080" y="4419720"/>
            <a:ext cx="769644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 Roman numeral, in parenthesizes, after the name of the metal indicates the charge of the metal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562720" y="914400"/>
            <a:ext cx="3276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3048120"/>
            <a:ext cx="6781680" cy="19224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Ions do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ot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hav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qual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numbers of electrons and protons, therefore they have a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harge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5" name=""/>
          <p:cNvSpPr/>
          <p:nvPr/>
        </p:nvSpPr>
        <p:spPr>
          <a:xfrm>
            <a:off x="685800" y="1828800"/>
            <a:ext cx="5410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 we can name Fe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143000" y="281952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 is a transition metal and its name is iron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86000" y="426708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ron can have two charges, either +2 or +3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09480" y="5638680"/>
            <a:ext cx="8001000" cy="703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know, because I have memorized 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2" name=""/>
          <p:cNvSpPr/>
          <p:nvPr/>
        </p:nvSpPr>
        <p:spPr>
          <a:xfrm>
            <a:off x="380880" y="1600200"/>
            <a:ext cx="5410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 we can name Fe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52280" y="24382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ron can have two charges, either +2 or +3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19320" y="350532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nce chloride is -1 and there is two of them, Fe must be +2 to make a neutral compound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905120" y="5638680"/>
            <a:ext cx="5410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Iron(II) chlor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9" name=""/>
          <p:cNvSpPr/>
          <p:nvPr/>
        </p:nvSpPr>
        <p:spPr>
          <a:xfrm>
            <a:off x="76320" y="1828800"/>
            <a:ext cx="5410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Iron(II) chlor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447920" y="3124080"/>
            <a:ext cx="693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II) tells me that the iron has a +2 charge and since chloride is   -1, then there must be two of them in the formula un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819520" y="2438280"/>
            <a:ext cx="533160" cy="838440"/>
          </a:xfrm>
          <a:prstGeom prst="downArrow">
            <a:avLst>
              <a:gd name="adj1" fmla="val 50000"/>
              <a:gd name="adj2" fmla="val 39315"/>
            </a:avLst>
          </a:prstGeom>
          <a:solidFill>
            <a:srgbClr val="ff9933"/>
          </a:solidFill>
          <a:ln w="12600">
            <a:solidFill>
              <a:srgbClr val="ff3399"/>
            </a:solidFill>
            <a:miter/>
          </a:ln>
          <a:effectLst>
            <a:outerShdw dist="85328" dir="12393904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5" name=""/>
          <p:cNvSpPr/>
          <p:nvPr/>
        </p:nvSpPr>
        <p:spPr>
          <a:xfrm>
            <a:off x="1143000" y="2286000"/>
            <a:ext cx="7543800" cy="3750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y are transition metals, silver (Ag) and cadmium (Cd) are always +1 and zinc is always +2.  Therefore no Roman numeral is used in the naming of compounds with these metal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800" y="1523880"/>
            <a:ext cx="880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course, there are exceptions to the ru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9" name=""/>
          <p:cNvSpPr/>
          <p:nvPr/>
        </p:nvSpPr>
        <p:spPr>
          <a:xfrm>
            <a:off x="182520" y="22096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ormula unit of cesium oxid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>
            <a:hlinkClick r:id="" action="ppaction://hlinkshowjump?jump=nextslide"/>
          </p:cNvPr>
          <p:cNvSpPr/>
          <p:nvPr/>
        </p:nvSpPr>
        <p:spPr>
          <a:xfrm>
            <a:off x="2057400" y="3200400"/>
            <a:ext cx="4038480" cy="2819520"/>
          </a:xfrm>
          <a:custGeom>
            <a:avLst/>
            <a:gdLst>
              <a:gd name="textAreaLeft" fmla="*/ 182520 w 4038480"/>
              <a:gd name="textAreaRight" fmla="*/ 3855960 w 4038480"/>
              <a:gd name="textAreaTop" fmla="*/ 182520 h 2819520"/>
              <a:gd name="textAreaBottom" fmla="*/ 2637000 h 2819520"/>
            </a:gdLst>
            <a:ahLst/>
            <a:rect l="textAreaLeft" t="textAreaTop" r="textAreaRight" b="textAreaBottom"/>
            <a:pathLst>
              <a:path w="30937" h="21600">
                <a:moveTo>
                  <a:pt x="0" y="0"/>
                </a:moveTo>
                <a:lnTo>
                  <a:pt x="30937" y="0"/>
                </a:lnTo>
                <a:lnTo>
                  <a:pt x="30937" y="21600"/>
                </a:lnTo>
                <a:lnTo>
                  <a:pt x="0" y="21600"/>
                </a:lnTo>
                <a:close/>
              </a:path>
              <a:path fill="lightenLess" w="30937" h="21600">
                <a:moveTo>
                  <a:pt x="0" y="0"/>
                </a:moveTo>
                <a:lnTo>
                  <a:pt x="30937" y="0"/>
                </a:lnTo>
                <a:lnTo>
                  <a:pt x="29537" y="1400"/>
                </a:lnTo>
                <a:lnTo>
                  <a:pt x="1400" y="1400"/>
                </a:lnTo>
                <a:close/>
              </a:path>
              <a:path fill="darken" w="30937" h="21600">
                <a:moveTo>
                  <a:pt x="30937" y="0"/>
                </a:moveTo>
                <a:lnTo>
                  <a:pt x="30937" y="21600"/>
                </a:lnTo>
                <a:lnTo>
                  <a:pt x="29537" y="20200"/>
                </a:lnTo>
                <a:lnTo>
                  <a:pt x="29537" y="1400"/>
                </a:lnTo>
                <a:close/>
              </a:path>
              <a:path fill="darkenLess" w="30937" h="21600">
                <a:moveTo>
                  <a:pt x="30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37" y="20200"/>
                </a:lnTo>
                <a:close/>
              </a:path>
              <a:path fill="lighten" w="30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3399"/>
                </a:solidFill>
                <a:latin typeface="Times New Roman"/>
              </a:rPr>
              <a:t>Hin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3" name=""/>
          <p:cNvSpPr/>
          <p:nvPr/>
        </p:nvSpPr>
        <p:spPr>
          <a:xfrm>
            <a:off x="182520" y="22096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ormula unit of cesium oxid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>
            <a:hlinkClick r:id="" action="ppaction://hlinkshowjump?jump=nextslide"/>
          </p:cNvPr>
          <p:cNvSpPr/>
          <p:nvPr/>
        </p:nvSpPr>
        <p:spPr>
          <a:xfrm>
            <a:off x="5562720" y="3962520"/>
            <a:ext cx="3581280" cy="2361960"/>
          </a:xfrm>
          <a:custGeom>
            <a:avLst/>
            <a:gdLst>
              <a:gd name="textAreaLeft" fmla="*/ 153000 w 3581280"/>
              <a:gd name="textAreaRight" fmla="*/ 3428280 w 3581280"/>
              <a:gd name="textAreaTop" fmla="*/ 153000 h 2361960"/>
              <a:gd name="textAreaBottom" fmla="*/ 2208960 h 2361960"/>
            </a:gdLst>
            <a:ahLst/>
            <a:rect l="textAreaLeft" t="textAreaTop" r="textAreaRight" b="textAreaBottom"/>
            <a:pathLst>
              <a:path w="32749" h="21600">
                <a:moveTo>
                  <a:pt x="0" y="0"/>
                </a:moveTo>
                <a:lnTo>
                  <a:pt x="32749" y="0"/>
                </a:lnTo>
                <a:lnTo>
                  <a:pt x="32749" y="21600"/>
                </a:lnTo>
                <a:lnTo>
                  <a:pt x="0" y="21600"/>
                </a:lnTo>
                <a:close/>
              </a:path>
              <a:path fill="lightenLess" w="32749" h="21600">
                <a:moveTo>
                  <a:pt x="0" y="0"/>
                </a:moveTo>
                <a:lnTo>
                  <a:pt x="32749" y="0"/>
                </a:lnTo>
                <a:lnTo>
                  <a:pt x="31349" y="1400"/>
                </a:lnTo>
                <a:lnTo>
                  <a:pt x="1400" y="1400"/>
                </a:lnTo>
                <a:close/>
              </a:path>
              <a:path fill="darken" w="32749" h="21600">
                <a:moveTo>
                  <a:pt x="32749" y="0"/>
                </a:moveTo>
                <a:lnTo>
                  <a:pt x="32749" y="21600"/>
                </a:lnTo>
                <a:lnTo>
                  <a:pt x="31349" y="20200"/>
                </a:lnTo>
                <a:lnTo>
                  <a:pt x="31349" y="1400"/>
                </a:lnTo>
                <a:close/>
              </a:path>
              <a:path fill="darkenLess" w="32749" h="21600">
                <a:moveTo>
                  <a:pt x="32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49" y="20200"/>
                </a:lnTo>
                <a:close/>
              </a:path>
              <a:path fill="lighten" w="32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3399"/>
                </a:solidFill>
                <a:latin typeface="Times New Roman"/>
              </a:rPr>
              <a:t>Hin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66680" y="31240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sium is Cs and oxide is oxyge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>
            <a:hlinkClick r:id="rId1" action="ppaction://hlinksldjump"/>
          </p:cNvPr>
          <p:cNvSpPr/>
          <p:nvPr/>
        </p:nvSpPr>
        <p:spPr>
          <a:xfrm>
            <a:off x="0" y="5638680"/>
            <a:ext cx="1600200" cy="762120"/>
          </a:xfrm>
          <a:custGeom>
            <a:avLst/>
            <a:gdLst>
              <a:gd name="textAreaLeft" fmla="*/ 49320 w 1600200"/>
              <a:gd name="textAreaRight" fmla="*/ 1550880 w 1600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5342" h="21600">
                <a:moveTo>
                  <a:pt x="0" y="0"/>
                </a:moveTo>
                <a:lnTo>
                  <a:pt x="45342" y="0"/>
                </a:lnTo>
                <a:lnTo>
                  <a:pt x="45342" y="21600"/>
                </a:lnTo>
                <a:lnTo>
                  <a:pt x="0" y="21600"/>
                </a:lnTo>
                <a:close/>
              </a:path>
              <a:path fill="lightenLess" w="45342" h="21600">
                <a:moveTo>
                  <a:pt x="0" y="0"/>
                </a:moveTo>
                <a:lnTo>
                  <a:pt x="45342" y="0"/>
                </a:lnTo>
                <a:lnTo>
                  <a:pt x="43942" y="1400"/>
                </a:lnTo>
                <a:lnTo>
                  <a:pt x="1400" y="1400"/>
                </a:lnTo>
                <a:close/>
              </a:path>
              <a:path fill="darken" w="45342" h="21600">
                <a:moveTo>
                  <a:pt x="45342" y="0"/>
                </a:moveTo>
                <a:lnTo>
                  <a:pt x="45342" y="21600"/>
                </a:lnTo>
                <a:lnTo>
                  <a:pt x="43942" y="20200"/>
                </a:lnTo>
                <a:lnTo>
                  <a:pt x="43942" y="1400"/>
                </a:lnTo>
                <a:close/>
              </a:path>
              <a:path fill="darkenLess" w="45342" h="21600">
                <a:moveTo>
                  <a:pt x="45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2" y="20200"/>
                </a:lnTo>
                <a:close/>
              </a:path>
              <a:path fill="lighten" w="45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s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>
            <a:hlinkClick r:id="rId2" action="ppaction://hlinksldjump"/>
          </p:cNvPr>
          <p:cNvSpPr/>
          <p:nvPr/>
        </p:nvSpPr>
        <p:spPr>
          <a:xfrm>
            <a:off x="1676520" y="5638680"/>
            <a:ext cx="1600200" cy="762120"/>
          </a:xfrm>
          <a:custGeom>
            <a:avLst/>
            <a:gdLst>
              <a:gd name="textAreaLeft" fmla="*/ 49320 w 1600200"/>
              <a:gd name="textAreaRight" fmla="*/ 1550880 w 1600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5342" h="21600">
                <a:moveTo>
                  <a:pt x="0" y="0"/>
                </a:moveTo>
                <a:lnTo>
                  <a:pt x="45342" y="0"/>
                </a:lnTo>
                <a:lnTo>
                  <a:pt x="45342" y="21600"/>
                </a:lnTo>
                <a:lnTo>
                  <a:pt x="0" y="21600"/>
                </a:lnTo>
                <a:close/>
              </a:path>
              <a:path fill="lightenLess" w="45342" h="21600">
                <a:moveTo>
                  <a:pt x="0" y="0"/>
                </a:moveTo>
                <a:lnTo>
                  <a:pt x="45342" y="0"/>
                </a:lnTo>
                <a:lnTo>
                  <a:pt x="43942" y="1400"/>
                </a:lnTo>
                <a:lnTo>
                  <a:pt x="1400" y="1400"/>
                </a:lnTo>
                <a:close/>
              </a:path>
              <a:path fill="darken" w="45342" h="21600">
                <a:moveTo>
                  <a:pt x="45342" y="0"/>
                </a:moveTo>
                <a:lnTo>
                  <a:pt x="45342" y="21600"/>
                </a:lnTo>
                <a:lnTo>
                  <a:pt x="43942" y="20200"/>
                </a:lnTo>
                <a:lnTo>
                  <a:pt x="43942" y="1400"/>
                </a:lnTo>
                <a:close/>
              </a:path>
              <a:path fill="darkenLess" w="45342" h="21600">
                <a:moveTo>
                  <a:pt x="45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2" y="20200"/>
                </a:lnTo>
                <a:close/>
              </a:path>
              <a:path fill="lighten" w="45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>
            <a:hlinkClick r:id="rId3" action="ppaction://hlinksldjump"/>
          </p:cNvPr>
          <p:cNvSpPr/>
          <p:nvPr/>
        </p:nvSpPr>
        <p:spPr>
          <a:xfrm>
            <a:off x="3352680" y="5638680"/>
            <a:ext cx="1600200" cy="762120"/>
          </a:xfrm>
          <a:custGeom>
            <a:avLst/>
            <a:gdLst>
              <a:gd name="textAreaLeft" fmla="*/ 49320 w 1600200"/>
              <a:gd name="textAreaRight" fmla="*/ 1550880 w 1600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5342" h="21600">
                <a:moveTo>
                  <a:pt x="0" y="0"/>
                </a:moveTo>
                <a:lnTo>
                  <a:pt x="45342" y="0"/>
                </a:lnTo>
                <a:lnTo>
                  <a:pt x="45342" y="21600"/>
                </a:lnTo>
                <a:lnTo>
                  <a:pt x="0" y="21600"/>
                </a:lnTo>
                <a:close/>
              </a:path>
              <a:path fill="lightenLess" w="45342" h="21600">
                <a:moveTo>
                  <a:pt x="0" y="0"/>
                </a:moveTo>
                <a:lnTo>
                  <a:pt x="45342" y="0"/>
                </a:lnTo>
                <a:lnTo>
                  <a:pt x="43942" y="1400"/>
                </a:lnTo>
                <a:lnTo>
                  <a:pt x="1400" y="1400"/>
                </a:lnTo>
                <a:close/>
              </a:path>
              <a:path fill="darken" w="45342" h="21600">
                <a:moveTo>
                  <a:pt x="45342" y="0"/>
                </a:moveTo>
                <a:lnTo>
                  <a:pt x="45342" y="21600"/>
                </a:lnTo>
                <a:lnTo>
                  <a:pt x="43942" y="20200"/>
                </a:lnTo>
                <a:lnTo>
                  <a:pt x="43942" y="1400"/>
                </a:lnTo>
                <a:close/>
              </a:path>
              <a:path fill="darkenLess" w="45342" h="21600">
                <a:moveTo>
                  <a:pt x="45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2" y="20200"/>
                </a:lnTo>
                <a:close/>
              </a:path>
              <a:path fill="lighten" w="45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s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1" name=""/>
          <p:cNvSpPr/>
          <p:nvPr/>
        </p:nvSpPr>
        <p:spPr>
          <a:xfrm>
            <a:off x="182520" y="22096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ormula unit of cesium oxid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066680" y="31240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sium is Cs and oxide is oxyge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>
            <a:hlinkClick r:id="" action="ppaction://hlinkshowjump?jump=previousslide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981080" y="403848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groups are they in on the periodic tabl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7" name="">
            <a:hlinkClick r:id="rId1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066680" y="19051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s is in Group 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362320" y="32767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 is in Group V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2" name="">
            <a:hlinkClick r:id="rId1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066680" y="19051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s is in Group 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362320" y="32767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 is in Group V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1676520" y="2133720"/>
            <a:ext cx="5333760" cy="30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OW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1371600" y="403848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t's Right !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0" name=""/>
          <p:cNvSpPr/>
          <p:nvPr/>
        </p:nvSpPr>
        <p:spPr>
          <a:xfrm>
            <a:off x="1219320" y="1676520"/>
            <a:ext cx="662940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sium ion is a +1 and the oxide ion is -2, so the correct formula is C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2438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Times New Roman"/>
              </a:rPr>
              <a:t>Positive ions are called c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34290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Times New Roman"/>
              </a:rPr>
              <a:t>Negative ions are called an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4" name=""/>
          <p:cNvSpPr/>
          <p:nvPr/>
        </p:nvSpPr>
        <p:spPr>
          <a:xfrm>
            <a:off x="457200" y="2057400"/>
            <a:ext cx="8229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Cu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>
            <a:hlinkClick r:id="" action="ppaction://hlinkshowjump?jump=nextslide"/>
          </p:cNvPr>
          <p:cNvSpPr/>
          <p:nvPr/>
        </p:nvSpPr>
        <p:spPr>
          <a:xfrm>
            <a:off x="4724280" y="3048120"/>
            <a:ext cx="4038840" cy="2819160"/>
          </a:xfrm>
          <a:custGeom>
            <a:avLst/>
            <a:gdLst>
              <a:gd name="textAreaLeft" fmla="*/ 182520 w 4038840"/>
              <a:gd name="textAreaRight" fmla="*/ 3856320 w 4038840"/>
              <a:gd name="textAreaTop" fmla="*/ 182520 h 2819160"/>
              <a:gd name="textAreaBottom" fmla="*/ 2636640 h 2819160"/>
            </a:gdLst>
            <a:ahLst/>
            <a:rect l="textAreaLeft" t="textAreaTop" r="textAreaRight" b="textAreaBottom"/>
            <a:pathLst>
              <a:path w="30944" h="21600">
                <a:moveTo>
                  <a:pt x="0" y="0"/>
                </a:moveTo>
                <a:lnTo>
                  <a:pt x="30944" y="0"/>
                </a:lnTo>
                <a:lnTo>
                  <a:pt x="30944" y="21600"/>
                </a:lnTo>
                <a:lnTo>
                  <a:pt x="0" y="21600"/>
                </a:lnTo>
                <a:close/>
              </a:path>
              <a:path fill="lightenLess" w="30944" h="21600">
                <a:moveTo>
                  <a:pt x="0" y="0"/>
                </a:moveTo>
                <a:lnTo>
                  <a:pt x="30944" y="0"/>
                </a:lnTo>
                <a:lnTo>
                  <a:pt x="29544" y="1400"/>
                </a:lnTo>
                <a:lnTo>
                  <a:pt x="1400" y="1400"/>
                </a:lnTo>
                <a:close/>
              </a:path>
              <a:path fill="darken" w="30944" h="21600">
                <a:moveTo>
                  <a:pt x="30944" y="0"/>
                </a:moveTo>
                <a:lnTo>
                  <a:pt x="30944" y="21600"/>
                </a:lnTo>
                <a:lnTo>
                  <a:pt x="29544" y="20200"/>
                </a:lnTo>
                <a:lnTo>
                  <a:pt x="29544" y="1400"/>
                </a:lnTo>
                <a:close/>
              </a:path>
              <a:path fill="darkenLess" w="30944" h="21600">
                <a:moveTo>
                  <a:pt x="30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4" y="20200"/>
                </a:lnTo>
                <a:close/>
              </a:path>
              <a:path fill="lighten" w="30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3399"/>
                </a:solidFill>
                <a:latin typeface="Times New Roman"/>
              </a:rPr>
              <a:t>Hin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>
            <a:hlinkClick r:id="rId1" action="ppaction://hlinksldjump"/>
          </p:cNvPr>
          <p:cNvSpPr/>
          <p:nvPr/>
        </p:nvSpPr>
        <p:spPr>
          <a:xfrm>
            <a:off x="533520" y="2743200"/>
            <a:ext cx="4038480" cy="685800"/>
          </a:xfrm>
          <a:custGeom>
            <a:avLst/>
            <a:gdLst>
              <a:gd name="textAreaLeft" fmla="*/ 44280 w 4038480"/>
              <a:gd name="textAreaRight" fmla="*/ 3994200 w 4038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7141" h="21600">
                <a:moveTo>
                  <a:pt x="0" y="0"/>
                </a:moveTo>
                <a:lnTo>
                  <a:pt x="127141" y="0"/>
                </a:lnTo>
                <a:lnTo>
                  <a:pt x="127141" y="21600"/>
                </a:lnTo>
                <a:lnTo>
                  <a:pt x="0" y="21600"/>
                </a:lnTo>
                <a:close/>
              </a:path>
              <a:path fill="lightenLess" w="127141" h="21600">
                <a:moveTo>
                  <a:pt x="0" y="0"/>
                </a:moveTo>
                <a:lnTo>
                  <a:pt x="127141" y="0"/>
                </a:lnTo>
                <a:lnTo>
                  <a:pt x="125741" y="1400"/>
                </a:lnTo>
                <a:lnTo>
                  <a:pt x="1400" y="1400"/>
                </a:lnTo>
                <a:close/>
              </a:path>
              <a:path fill="darken" w="127141" h="21600">
                <a:moveTo>
                  <a:pt x="127141" y="0"/>
                </a:moveTo>
                <a:lnTo>
                  <a:pt x="127141" y="21600"/>
                </a:lnTo>
                <a:lnTo>
                  <a:pt x="125741" y="20200"/>
                </a:lnTo>
                <a:lnTo>
                  <a:pt x="125741" y="1400"/>
                </a:lnTo>
                <a:close/>
              </a:path>
              <a:path fill="darkenLess" w="127141" h="21600">
                <a:moveTo>
                  <a:pt x="12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741" y="20200"/>
                </a:lnTo>
                <a:close/>
              </a:path>
              <a:path fill="lighten" w="12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per (II) sulf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>
            <a:hlinkClick r:id="rId2" action="ppaction://hlinksldjump"/>
          </p:cNvPr>
          <p:cNvSpPr/>
          <p:nvPr/>
        </p:nvSpPr>
        <p:spPr>
          <a:xfrm>
            <a:off x="533520" y="3581280"/>
            <a:ext cx="4038480" cy="685800"/>
          </a:xfrm>
          <a:custGeom>
            <a:avLst/>
            <a:gdLst>
              <a:gd name="textAreaLeft" fmla="*/ 44280 w 4038480"/>
              <a:gd name="textAreaRight" fmla="*/ 3994200 w 4038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7141" h="21600">
                <a:moveTo>
                  <a:pt x="0" y="0"/>
                </a:moveTo>
                <a:lnTo>
                  <a:pt x="127141" y="0"/>
                </a:lnTo>
                <a:lnTo>
                  <a:pt x="127141" y="21600"/>
                </a:lnTo>
                <a:lnTo>
                  <a:pt x="0" y="21600"/>
                </a:lnTo>
                <a:close/>
              </a:path>
              <a:path fill="lightenLess" w="127141" h="21600">
                <a:moveTo>
                  <a:pt x="0" y="0"/>
                </a:moveTo>
                <a:lnTo>
                  <a:pt x="127141" y="0"/>
                </a:lnTo>
                <a:lnTo>
                  <a:pt x="125741" y="1400"/>
                </a:lnTo>
                <a:lnTo>
                  <a:pt x="1400" y="1400"/>
                </a:lnTo>
                <a:close/>
              </a:path>
              <a:path fill="darken" w="127141" h="21600">
                <a:moveTo>
                  <a:pt x="127141" y="0"/>
                </a:moveTo>
                <a:lnTo>
                  <a:pt x="127141" y="21600"/>
                </a:lnTo>
                <a:lnTo>
                  <a:pt x="125741" y="20200"/>
                </a:lnTo>
                <a:lnTo>
                  <a:pt x="125741" y="1400"/>
                </a:lnTo>
                <a:close/>
              </a:path>
              <a:path fill="darkenLess" w="127141" h="21600">
                <a:moveTo>
                  <a:pt x="12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741" y="20200"/>
                </a:lnTo>
                <a:close/>
              </a:path>
              <a:path fill="lighten" w="12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per (I) sulf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>
            <a:hlinkClick r:id="rId3" action="ppaction://hlinksldjump"/>
          </p:cNvPr>
          <p:cNvSpPr/>
          <p:nvPr/>
        </p:nvSpPr>
        <p:spPr>
          <a:xfrm>
            <a:off x="533520" y="4495680"/>
            <a:ext cx="4038480" cy="685800"/>
          </a:xfrm>
          <a:custGeom>
            <a:avLst/>
            <a:gdLst>
              <a:gd name="textAreaLeft" fmla="*/ 44280 w 4038480"/>
              <a:gd name="textAreaRight" fmla="*/ 3994200 w 4038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7141" h="21600">
                <a:moveTo>
                  <a:pt x="0" y="0"/>
                </a:moveTo>
                <a:lnTo>
                  <a:pt x="127141" y="0"/>
                </a:lnTo>
                <a:lnTo>
                  <a:pt x="127141" y="21600"/>
                </a:lnTo>
                <a:lnTo>
                  <a:pt x="0" y="21600"/>
                </a:lnTo>
                <a:close/>
              </a:path>
              <a:path fill="lightenLess" w="127141" h="21600">
                <a:moveTo>
                  <a:pt x="0" y="0"/>
                </a:moveTo>
                <a:lnTo>
                  <a:pt x="127141" y="0"/>
                </a:lnTo>
                <a:lnTo>
                  <a:pt x="125741" y="1400"/>
                </a:lnTo>
                <a:lnTo>
                  <a:pt x="1400" y="1400"/>
                </a:lnTo>
                <a:close/>
              </a:path>
              <a:path fill="darken" w="127141" h="21600">
                <a:moveTo>
                  <a:pt x="127141" y="0"/>
                </a:moveTo>
                <a:lnTo>
                  <a:pt x="127141" y="21600"/>
                </a:lnTo>
                <a:lnTo>
                  <a:pt x="125741" y="20200"/>
                </a:lnTo>
                <a:lnTo>
                  <a:pt x="125741" y="1400"/>
                </a:lnTo>
                <a:close/>
              </a:path>
              <a:path fill="darkenLess" w="127141" h="21600">
                <a:moveTo>
                  <a:pt x="12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741" y="20200"/>
                </a:lnTo>
                <a:close/>
              </a:path>
              <a:path fill="lighten" w="12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per sulf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>
            <a:hlinkClick r:id="rId4" action="ppaction://hlinksldjump"/>
          </p:cNvPr>
          <p:cNvSpPr/>
          <p:nvPr/>
        </p:nvSpPr>
        <p:spPr>
          <a:xfrm>
            <a:off x="533520" y="5334120"/>
            <a:ext cx="4038480" cy="685800"/>
          </a:xfrm>
          <a:custGeom>
            <a:avLst/>
            <a:gdLst>
              <a:gd name="textAreaLeft" fmla="*/ 44280 w 4038480"/>
              <a:gd name="textAreaRight" fmla="*/ 3994200 w 4038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7141" h="21600">
                <a:moveTo>
                  <a:pt x="0" y="0"/>
                </a:moveTo>
                <a:lnTo>
                  <a:pt x="127141" y="0"/>
                </a:lnTo>
                <a:lnTo>
                  <a:pt x="127141" y="21600"/>
                </a:lnTo>
                <a:lnTo>
                  <a:pt x="0" y="21600"/>
                </a:lnTo>
                <a:close/>
              </a:path>
              <a:path fill="lightenLess" w="127141" h="21600">
                <a:moveTo>
                  <a:pt x="0" y="0"/>
                </a:moveTo>
                <a:lnTo>
                  <a:pt x="127141" y="0"/>
                </a:lnTo>
                <a:lnTo>
                  <a:pt x="125741" y="1400"/>
                </a:lnTo>
                <a:lnTo>
                  <a:pt x="1400" y="1400"/>
                </a:lnTo>
                <a:close/>
              </a:path>
              <a:path fill="darken" w="127141" h="21600">
                <a:moveTo>
                  <a:pt x="127141" y="0"/>
                </a:moveTo>
                <a:lnTo>
                  <a:pt x="127141" y="21600"/>
                </a:lnTo>
                <a:lnTo>
                  <a:pt x="125741" y="20200"/>
                </a:lnTo>
                <a:lnTo>
                  <a:pt x="125741" y="1400"/>
                </a:lnTo>
                <a:close/>
              </a:path>
              <a:path fill="darkenLess" w="127141" h="21600">
                <a:moveTo>
                  <a:pt x="12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741" y="20200"/>
                </a:lnTo>
                <a:close/>
              </a:path>
              <a:path fill="lighten" w="12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per (II) sulf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>
            <a:hlinkClick r:id="rId5" action="ppaction://hlinksldjump"/>
          </p:cNvPr>
          <p:cNvSpPr/>
          <p:nvPr/>
        </p:nvSpPr>
        <p:spPr>
          <a:xfrm>
            <a:off x="533520" y="6172200"/>
            <a:ext cx="4038480" cy="685800"/>
          </a:xfrm>
          <a:custGeom>
            <a:avLst/>
            <a:gdLst>
              <a:gd name="textAreaLeft" fmla="*/ 44280 w 4038480"/>
              <a:gd name="textAreaRight" fmla="*/ 3994200 w 4038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7141" h="21600">
                <a:moveTo>
                  <a:pt x="0" y="0"/>
                </a:moveTo>
                <a:lnTo>
                  <a:pt x="127141" y="0"/>
                </a:lnTo>
                <a:lnTo>
                  <a:pt x="127141" y="21600"/>
                </a:lnTo>
                <a:lnTo>
                  <a:pt x="0" y="21600"/>
                </a:lnTo>
                <a:close/>
              </a:path>
              <a:path fill="lightenLess" w="127141" h="21600">
                <a:moveTo>
                  <a:pt x="0" y="0"/>
                </a:moveTo>
                <a:lnTo>
                  <a:pt x="127141" y="0"/>
                </a:lnTo>
                <a:lnTo>
                  <a:pt x="125741" y="1400"/>
                </a:lnTo>
                <a:lnTo>
                  <a:pt x="1400" y="1400"/>
                </a:lnTo>
                <a:close/>
              </a:path>
              <a:path fill="darken" w="127141" h="21600">
                <a:moveTo>
                  <a:pt x="127141" y="0"/>
                </a:moveTo>
                <a:lnTo>
                  <a:pt x="127141" y="21600"/>
                </a:lnTo>
                <a:lnTo>
                  <a:pt x="125741" y="20200"/>
                </a:lnTo>
                <a:lnTo>
                  <a:pt x="125741" y="1400"/>
                </a:lnTo>
                <a:close/>
              </a:path>
              <a:path fill="darkenLess" w="127141" h="21600">
                <a:moveTo>
                  <a:pt x="12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741" y="20200"/>
                </a:lnTo>
                <a:close/>
              </a:path>
              <a:path fill="lighten" w="12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per (I) sulf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3" name="">
            <a:hlinkClick r:id="" action="ppaction://hlinkshowjump?jump=previousslide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990720" y="19810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per is Cu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752480" y="281952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ide is an ion of sulfur and sulfur has the symbol 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666880" y="434340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are they on the periodic tabl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9" name="">
            <a:hlinkClick r:id="rId1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371600" y="220968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he charge on sulfur and on coppe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133720" y="396252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ur is in Group VIA and copper is in Group I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4" name=""/>
          <p:cNvSpPr/>
          <p:nvPr/>
        </p:nvSpPr>
        <p:spPr>
          <a:xfrm>
            <a:off x="1219320" y="228600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per is a transition metal which can have more than one charge so it needs  a Roman numera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>
            <a:hlinkClick r:id="rId1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8" name="">
            <a:hlinkClick r:id="rId1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057400" y="23623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ate is a polyatomic ion, which is in the next sec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1676520" y="2133720"/>
            <a:ext cx="5333760" cy="30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OW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1371600" y="403848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t's Right !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5" name=""/>
          <p:cNvSpPr/>
          <p:nvPr/>
        </p:nvSpPr>
        <p:spPr>
          <a:xfrm>
            <a:off x="685800" y="1600200"/>
            <a:ext cx="7238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ur is in Group VIA so has a charge of -2.  Therefore if it takes two copper ion to satisfy the sulfur the copper has to be +1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981080" y="1447920"/>
            <a:ext cx="60962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Na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ccff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Polyatomic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>
            <a:hlinkClick r:id="" action="ppaction://hlinkshowjump?jump=endshow"/>
          </p:cNvPr>
          <p:cNvSpPr/>
          <p:nvPr/>
        </p:nvSpPr>
        <p:spPr>
          <a:xfrm>
            <a:off x="769608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0000cc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>
            <a:hlinkClick r:id="rId1" action="ppaction://hlinksldjump"/>
          </p:cNvPr>
          <p:cNvSpPr/>
          <p:nvPr/>
        </p:nvSpPr>
        <p:spPr>
          <a:xfrm>
            <a:off x="70102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" y="190512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monoatomic ion comes from a single atom gaining or losing electrons.  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r 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re monoatomic 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120" y="3886200"/>
            <a:ext cx="7848360" cy="192240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yatomic ions are groups of atoms, held together by covalent bonds, that have gained or lost electr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9" name=""/>
          <p:cNvSpPr/>
          <p:nvPr/>
        </p:nvSpPr>
        <p:spPr>
          <a:xfrm>
            <a:off x="457200" y="190512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yatomic ions are groups of atoms, held together by covalent bonds, that have gained or lost electr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828800" y="42670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ate ion is example of a polyatomic 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2666880" y="2743200"/>
            <a:ext cx="4876920" cy="3124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5" name=""/>
          <p:cNvSpPr/>
          <p:nvPr/>
        </p:nvSpPr>
        <p:spPr>
          <a:xfrm>
            <a:off x="0" y="21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ate ion is example of a polyatomic 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2669040" y="2057400"/>
            <a:ext cx="5157360" cy="3583800"/>
            <a:chOff x="2669040" y="2057400"/>
            <a:chExt cx="5157360" cy="3583800"/>
          </a:xfrm>
        </p:grpSpPr>
        <p:sp>
          <p:nvSpPr>
            <p:cNvPr id="1337" name=""/>
            <p:cNvSpPr/>
            <p:nvPr/>
          </p:nvSpPr>
          <p:spPr>
            <a:xfrm>
              <a:off x="5029200" y="426708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505320" y="37339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14800" y="373392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495680" y="403848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962520" y="472428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419720" y="312408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669040" y="2057400"/>
              <a:ext cx="1148400" cy="35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9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endParaRPr b="0" lang="en-US" sz="2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793120" y="2057400"/>
              <a:ext cx="1148400" cy="35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9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858000" y="2971800"/>
              <a:ext cx="968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2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36232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f an atom loses electrons then it has less negative charges than positive charges (protons), so it has a positive char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53341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56386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571500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672800" y="5105520"/>
            <a:ext cx="1774800" cy="1191240"/>
            <a:chOff x="4672800" y="5105520"/>
            <a:chExt cx="1774800" cy="1191240"/>
          </a:xfrm>
        </p:grpSpPr>
        <p:sp>
          <p:nvSpPr>
            <p:cNvPr id="185" name=""/>
            <p:cNvSpPr/>
            <p:nvPr/>
          </p:nvSpPr>
          <p:spPr>
            <a:xfrm>
              <a:off x="5029200" y="5486760"/>
              <a:ext cx="91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72800" y="5105520"/>
              <a:ext cx="17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629400" y="5486400"/>
            <a:ext cx="1523880" cy="703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1983240" y="762120"/>
            <a:ext cx="5157360" cy="3583800"/>
            <a:chOff x="1983240" y="762120"/>
            <a:chExt cx="5157360" cy="3583800"/>
          </a:xfrm>
        </p:grpSpPr>
        <p:sp>
          <p:nvSpPr>
            <p:cNvPr id="1350" name=""/>
            <p:cNvSpPr/>
            <p:nvPr/>
          </p:nvSpPr>
          <p:spPr>
            <a:xfrm>
              <a:off x="4343400" y="297180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819520" y="243864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429000" y="243864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09880" y="274320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276720" y="342900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733920" y="182880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983240" y="762120"/>
              <a:ext cx="1148400" cy="35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9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endParaRPr b="0" lang="en-US" sz="2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107320" y="762120"/>
              <a:ext cx="1148400" cy="35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9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172200" y="1676520"/>
              <a:ext cx="968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2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914400" y="4495680"/>
            <a:ext cx="746748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002e"/>
                </a:solidFill>
                <a:latin typeface="Times New Roman"/>
              </a:rPr>
              <a:t>The two extra electrons are shared among the atoms.  This will be explained in the covalent mode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3" name=""/>
          <p:cNvSpPr/>
          <p:nvPr/>
        </p:nvSpPr>
        <p:spPr>
          <a:xfrm>
            <a:off x="0" y="1981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yatomic ions don’t generally lose their identity during a chemical reac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066680" y="350532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yatomic ions can have a positive charge or negative charge or both a positive and  negative char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9" name=""/>
          <p:cNvSpPr/>
          <p:nvPr/>
        </p:nvSpPr>
        <p:spPr>
          <a:xfrm>
            <a:off x="762120" y="22860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yatomic ions are not compounds by themselves they have to have particles of the opposite charge to make a neutral compou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4" name=""/>
          <p:cNvSpPr/>
          <p:nvPr/>
        </p:nvSpPr>
        <p:spPr>
          <a:xfrm>
            <a:off x="914400" y="2362320"/>
            <a:ext cx="739152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common polyatomic ions have negative charges.  The only positive one of interest at this point are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9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914400" y="2286000"/>
            <a:ext cx="739152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ydronium,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and ammonium,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end in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ium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s if they were metal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/>
          <p:nvPr/>
        </p:nvSpPr>
        <p:spPr>
          <a:xfrm>
            <a:off x="1981080" y="3352680"/>
            <a:ext cx="5029200" cy="2819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5" name=""/>
          <p:cNvSpPr/>
          <p:nvPr/>
        </p:nvSpPr>
        <p:spPr>
          <a:xfrm>
            <a:off x="1600200" y="6156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33520" y="2133720"/>
            <a:ext cx="86104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ate, P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is the only common polyatomic ion with a -3 char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7" name=""/>
          <p:cNvGrpSpPr/>
          <p:nvPr/>
        </p:nvGrpSpPr>
        <p:grpSpPr>
          <a:xfrm>
            <a:off x="2135520" y="2590920"/>
            <a:ext cx="5157360" cy="3583800"/>
            <a:chOff x="2135520" y="2590920"/>
            <a:chExt cx="5157360" cy="3583800"/>
          </a:xfrm>
        </p:grpSpPr>
        <p:sp>
          <p:nvSpPr>
            <p:cNvPr id="1388" name=""/>
            <p:cNvSpPr/>
            <p:nvPr/>
          </p:nvSpPr>
          <p:spPr>
            <a:xfrm>
              <a:off x="4495680" y="4800600"/>
              <a:ext cx="838440" cy="83808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971800" y="426708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581280" y="426708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962520" y="457200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429000" y="525780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86200" y="365760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135520" y="2590920"/>
              <a:ext cx="1148400" cy="35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9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endParaRPr b="0" lang="en-US" sz="2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59600" y="2590920"/>
              <a:ext cx="1148400" cy="35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9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24480" y="3505320"/>
              <a:ext cx="968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3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0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57200" y="243828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yanide,C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and hydroxide, OH-, are the only common polyatomic ions that end with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id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5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0" y="1905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veral polyatomic ions can have different numbers of oxygen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952880" y="2743200"/>
            <a:ext cx="358164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ate is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ite is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295280" y="41148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at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goes with more oxy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371600" y="49528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it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goes with less oxy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3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1905120"/>
            <a:ext cx="35812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ate is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ite is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276720" y="18288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at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goes with more oxy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24080" y="25146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it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goes with less oxy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066680" y="35053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th ions have the same char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143000" y="4267080"/>
            <a:ext cx="6858000" cy="1312920"/>
          </a:xfrm>
          <a:prstGeom prst="rect">
            <a:avLst/>
          </a:prstGeom>
          <a:solidFill>
            <a:srgbClr val="f00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I memorize th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at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ons, then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it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ons are one less oxyg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2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80880" y="190512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hydrogen is a nonmetal, it generally loses an electron to become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838080" y="35812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hydrogen ion,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can be attracted to the negative polyatomic 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76212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2096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2514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259092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215600" y="1981080"/>
            <a:ext cx="1774800" cy="1191240"/>
            <a:chOff x="4215600" y="1981080"/>
            <a:chExt cx="1774800" cy="1191240"/>
          </a:xfrm>
        </p:grpSpPr>
        <p:sp>
          <p:nvSpPr>
            <p:cNvPr id="195" name=""/>
            <p:cNvSpPr/>
            <p:nvPr/>
          </p:nvSpPr>
          <p:spPr>
            <a:xfrm>
              <a:off x="4572000" y="2362320"/>
              <a:ext cx="91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15600" y="1981080"/>
              <a:ext cx="17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172200" y="2362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3526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equation shows the loss of 1 electron (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 from Na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5029200"/>
            <a:ext cx="5867640" cy="1312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“free” electron can be gained by another ato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8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09480" y="1905120"/>
            <a:ext cx="853452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the carbonate ion,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picks up one hydrogen ion, it becomes hydrogen carbonate ion, H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295280" y="411480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tice the charge of the ion has decreased by 1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4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85800" y="213372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ydrogen carbonate ion can also be called bicarbonate ion.  Th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i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refers to the hydroge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447920" y="4267080"/>
            <a:ext cx="67816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dium bicarbonate - NaH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uld be an examp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0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838080" y="2286000"/>
            <a:ext cx="7696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mmonium,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is part of a compound, it is named first has if it were a meta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600200" y="4343400"/>
            <a:ext cx="6324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 - ammonium chlor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6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0" y="2057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 need to memorize the polyatomic ions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990720" y="289548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ut the formula on one side of a index card and the name on the other sid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066680" y="4876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0002e"/>
                </a:solidFill>
                <a:latin typeface="Times New Roman"/>
              </a:rPr>
              <a:t>Practic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Practic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3" name=""/>
          <p:cNvSpPr/>
          <p:nvPr/>
        </p:nvSpPr>
        <p:spPr>
          <a:xfrm>
            <a:off x="380880" y="2209680"/>
            <a:ext cx="8382240" cy="3141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there is more than one polyatomic ion of a given type in a compound then parenthesizes are put around polyatomic ion and the subscript is put outside the parenthesiz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7" name=""/>
          <p:cNvSpPr/>
          <p:nvPr/>
        </p:nvSpPr>
        <p:spPr>
          <a:xfrm>
            <a:off x="685800" y="19051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dentity of the polyatomic ion has to be preserved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295280" y="320040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the same element is in two different polyatomic ions they are written separatel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523880" y="5410080"/>
            <a:ext cx="6477120" cy="78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ammonium nitr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2" name=""/>
          <p:cNvSpPr/>
          <p:nvPr/>
        </p:nvSpPr>
        <p:spPr>
          <a:xfrm>
            <a:off x="762120" y="213372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ormula unit for iron(III) nitrat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600200" y="6156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>
            <a:hlinkClick r:id="" action="ppaction://hlinkshowjump?jump=nextslide"/>
          </p:cNvPr>
          <p:cNvSpPr/>
          <p:nvPr/>
        </p:nvSpPr>
        <p:spPr>
          <a:xfrm>
            <a:off x="5715000" y="3048120"/>
            <a:ext cx="3048120" cy="2514600"/>
          </a:xfrm>
          <a:custGeom>
            <a:avLst/>
            <a:gdLst>
              <a:gd name="textAreaLeft" fmla="*/ 162720 w 3048120"/>
              <a:gd name="textAreaRight" fmla="*/ 2885400 w 3048120"/>
              <a:gd name="textAreaTop" fmla="*/ 162720 h 2514600"/>
              <a:gd name="textAreaBottom" fmla="*/ 2351880 h 2514600"/>
            </a:gdLst>
            <a:ahLst/>
            <a:rect l="textAreaLeft" t="textAreaTop" r="textAreaRight" b="textAreaBottom"/>
            <a:pathLst>
              <a:path w="26182" h="21600">
                <a:moveTo>
                  <a:pt x="0" y="0"/>
                </a:moveTo>
                <a:lnTo>
                  <a:pt x="26182" y="0"/>
                </a:lnTo>
                <a:lnTo>
                  <a:pt x="26182" y="21600"/>
                </a:lnTo>
                <a:lnTo>
                  <a:pt x="0" y="21600"/>
                </a:lnTo>
                <a:close/>
              </a:path>
              <a:path fill="lightenLess" w="26182" h="21600">
                <a:moveTo>
                  <a:pt x="0" y="0"/>
                </a:moveTo>
                <a:lnTo>
                  <a:pt x="26182" y="0"/>
                </a:lnTo>
                <a:lnTo>
                  <a:pt x="24782" y="1400"/>
                </a:lnTo>
                <a:lnTo>
                  <a:pt x="1400" y="1400"/>
                </a:lnTo>
                <a:close/>
              </a:path>
              <a:path fill="darken" w="26182" h="21600">
                <a:moveTo>
                  <a:pt x="26182" y="0"/>
                </a:moveTo>
                <a:lnTo>
                  <a:pt x="26182" y="21600"/>
                </a:lnTo>
                <a:lnTo>
                  <a:pt x="24782" y="20200"/>
                </a:lnTo>
                <a:lnTo>
                  <a:pt x="24782" y="1400"/>
                </a:lnTo>
                <a:close/>
              </a:path>
              <a:path fill="darkenLess" w="26182" h="21600">
                <a:moveTo>
                  <a:pt x="26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2" y="20200"/>
                </a:lnTo>
                <a:close/>
              </a:path>
              <a:path fill="lighten" w="26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3399"/>
                </a:solidFill>
                <a:latin typeface="Times New Roman"/>
              </a:rPr>
              <a:t>Hin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>
            <a:hlinkClick r:id="rId1" action="ppaction://hlinksldjump"/>
          </p:cNvPr>
          <p:cNvSpPr/>
          <p:nvPr/>
        </p:nvSpPr>
        <p:spPr>
          <a:xfrm>
            <a:off x="457200" y="4419720"/>
            <a:ext cx="2438280" cy="761760"/>
          </a:xfrm>
          <a:custGeom>
            <a:avLst/>
            <a:gdLst>
              <a:gd name="textAreaLeft" fmla="*/ 49320 w 2438280"/>
              <a:gd name="textAreaRight" fmla="*/ 2388960 w 24382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9116" h="21600">
                <a:moveTo>
                  <a:pt x="0" y="0"/>
                </a:moveTo>
                <a:lnTo>
                  <a:pt x="69116" y="0"/>
                </a:lnTo>
                <a:lnTo>
                  <a:pt x="69116" y="21600"/>
                </a:lnTo>
                <a:lnTo>
                  <a:pt x="0" y="21600"/>
                </a:lnTo>
                <a:close/>
              </a:path>
              <a:path fill="lightenLess" w="69116" h="21600">
                <a:moveTo>
                  <a:pt x="0" y="0"/>
                </a:moveTo>
                <a:lnTo>
                  <a:pt x="69116" y="0"/>
                </a:lnTo>
                <a:lnTo>
                  <a:pt x="67716" y="1400"/>
                </a:lnTo>
                <a:lnTo>
                  <a:pt x="1400" y="1400"/>
                </a:lnTo>
                <a:close/>
              </a:path>
              <a:path fill="darken" w="69116" h="21600">
                <a:moveTo>
                  <a:pt x="69116" y="0"/>
                </a:moveTo>
                <a:lnTo>
                  <a:pt x="69116" y="21600"/>
                </a:lnTo>
                <a:lnTo>
                  <a:pt x="67716" y="20200"/>
                </a:lnTo>
                <a:lnTo>
                  <a:pt x="67716" y="1400"/>
                </a:lnTo>
                <a:close/>
              </a:path>
              <a:path fill="darkenLess" w="69116" h="21600">
                <a:moveTo>
                  <a:pt x="69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16" y="20200"/>
                </a:lnTo>
                <a:close/>
              </a:path>
              <a:path fill="lighten" w="69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>
            <a:hlinkClick r:id="rId2" action="ppaction://hlinksldjump"/>
          </p:cNvPr>
          <p:cNvSpPr/>
          <p:nvPr/>
        </p:nvSpPr>
        <p:spPr>
          <a:xfrm>
            <a:off x="3124080" y="4495680"/>
            <a:ext cx="2438640" cy="762120"/>
          </a:xfrm>
          <a:custGeom>
            <a:avLst/>
            <a:gdLst>
              <a:gd name="textAreaLeft" fmla="*/ 49320 w 2438640"/>
              <a:gd name="textAreaRight" fmla="*/ 2389320 w 2438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9093" h="21600">
                <a:moveTo>
                  <a:pt x="0" y="0"/>
                </a:moveTo>
                <a:lnTo>
                  <a:pt x="69093" y="0"/>
                </a:lnTo>
                <a:lnTo>
                  <a:pt x="69093" y="21600"/>
                </a:lnTo>
                <a:lnTo>
                  <a:pt x="0" y="21600"/>
                </a:lnTo>
                <a:close/>
              </a:path>
              <a:path fill="lightenLess" w="69093" h="21600">
                <a:moveTo>
                  <a:pt x="0" y="0"/>
                </a:moveTo>
                <a:lnTo>
                  <a:pt x="69093" y="0"/>
                </a:lnTo>
                <a:lnTo>
                  <a:pt x="67694" y="1400"/>
                </a:lnTo>
                <a:lnTo>
                  <a:pt x="1400" y="1400"/>
                </a:lnTo>
                <a:close/>
              </a:path>
              <a:path fill="darken" w="69093" h="21600">
                <a:moveTo>
                  <a:pt x="69093" y="0"/>
                </a:moveTo>
                <a:lnTo>
                  <a:pt x="69093" y="21600"/>
                </a:lnTo>
                <a:lnTo>
                  <a:pt x="67694" y="20200"/>
                </a:lnTo>
                <a:lnTo>
                  <a:pt x="67694" y="1400"/>
                </a:lnTo>
                <a:close/>
              </a:path>
              <a:path fill="darkenLess" w="69093" h="21600">
                <a:moveTo>
                  <a:pt x="69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94" y="20200"/>
                </a:lnTo>
                <a:close/>
              </a:path>
              <a:path fill="lighten" w="69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>
            <a:hlinkClick r:id="rId3" action="ppaction://hlinksldjump"/>
          </p:cNvPr>
          <p:cNvSpPr/>
          <p:nvPr/>
        </p:nvSpPr>
        <p:spPr>
          <a:xfrm>
            <a:off x="3124080" y="5334120"/>
            <a:ext cx="2438640" cy="761760"/>
          </a:xfrm>
          <a:custGeom>
            <a:avLst/>
            <a:gdLst>
              <a:gd name="textAreaLeft" fmla="*/ 49320 w 2438640"/>
              <a:gd name="textAreaRight" fmla="*/ 2389320 w 24386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9126" h="21600">
                <a:moveTo>
                  <a:pt x="0" y="0"/>
                </a:moveTo>
                <a:lnTo>
                  <a:pt x="69126" y="0"/>
                </a:lnTo>
                <a:lnTo>
                  <a:pt x="69126" y="21600"/>
                </a:lnTo>
                <a:lnTo>
                  <a:pt x="0" y="21600"/>
                </a:lnTo>
                <a:close/>
              </a:path>
              <a:path fill="lightenLess" w="69126" h="21600">
                <a:moveTo>
                  <a:pt x="0" y="0"/>
                </a:moveTo>
                <a:lnTo>
                  <a:pt x="69126" y="0"/>
                </a:lnTo>
                <a:lnTo>
                  <a:pt x="67726" y="1400"/>
                </a:lnTo>
                <a:lnTo>
                  <a:pt x="1400" y="1400"/>
                </a:lnTo>
                <a:close/>
              </a:path>
              <a:path fill="darken" w="69126" h="21600">
                <a:moveTo>
                  <a:pt x="69126" y="0"/>
                </a:moveTo>
                <a:lnTo>
                  <a:pt x="69126" y="21600"/>
                </a:lnTo>
                <a:lnTo>
                  <a:pt x="67726" y="20200"/>
                </a:lnTo>
                <a:lnTo>
                  <a:pt x="67726" y="1400"/>
                </a:lnTo>
                <a:close/>
              </a:path>
              <a:path fill="darkenLess" w="69126" h="21600">
                <a:moveTo>
                  <a:pt x="69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26" y="20200"/>
                </a:lnTo>
                <a:close/>
              </a:path>
              <a:path fill="lighten" w="69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>
            <a:hlinkClick r:id="rId4" action="ppaction://hlinksldjump"/>
          </p:cNvPr>
          <p:cNvSpPr/>
          <p:nvPr/>
        </p:nvSpPr>
        <p:spPr>
          <a:xfrm>
            <a:off x="457200" y="5334120"/>
            <a:ext cx="2438280" cy="761760"/>
          </a:xfrm>
          <a:custGeom>
            <a:avLst/>
            <a:gdLst>
              <a:gd name="textAreaLeft" fmla="*/ 49320 w 2438280"/>
              <a:gd name="textAreaRight" fmla="*/ 2388960 w 24382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9116" h="21600">
                <a:moveTo>
                  <a:pt x="0" y="0"/>
                </a:moveTo>
                <a:lnTo>
                  <a:pt x="69116" y="0"/>
                </a:lnTo>
                <a:lnTo>
                  <a:pt x="69116" y="21600"/>
                </a:lnTo>
                <a:lnTo>
                  <a:pt x="0" y="21600"/>
                </a:lnTo>
                <a:close/>
              </a:path>
              <a:path fill="lightenLess" w="69116" h="21600">
                <a:moveTo>
                  <a:pt x="0" y="0"/>
                </a:moveTo>
                <a:lnTo>
                  <a:pt x="69116" y="0"/>
                </a:lnTo>
                <a:lnTo>
                  <a:pt x="67716" y="1400"/>
                </a:lnTo>
                <a:lnTo>
                  <a:pt x="1400" y="1400"/>
                </a:lnTo>
                <a:close/>
              </a:path>
              <a:path fill="darken" w="69116" h="21600">
                <a:moveTo>
                  <a:pt x="69116" y="0"/>
                </a:moveTo>
                <a:lnTo>
                  <a:pt x="69116" y="21600"/>
                </a:lnTo>
                <a:lnTo>
                  <a:pt x="67716" y="20200"/>
                </a:lnTo>
                <a:lnTo>
                  <a:pt x="67716" y="1400"/>
                </a:lnTo>
                <a:close/>
              </a:path>
              <a:path fill="darkenLess" w="69116" h="21600">
                <a:moveTo>
                  <a:pt x="69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16" y="20200"/>
                </a:lnTo>
                <a:close/>
              </a:path>
              <a:path fill="lighten" w="69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>
            <a:hlinkClick r:id="rId5" action="ppaction://hlinksldjump"/>
          </p:cNvPr>
          <p:cNvSpPr/>
          <p:nvPr/>
        </p:nvSpPr>
        <p:spPr>
          <a:xfrm>
            <a:off x="457200" y="3505320"/>
            <a:ext cx="2438280" cy="761760"/>
          </a:xfrm>
          <a:custGeom>
            <a:avLst/>
            <a:gdLst>
              <a:gd name="textAreaLeft" fmla="*/ 49320 w 2438280"/>
              <a:gd name="textAreaRight" fmla="*/ 2388960 w 24382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9116" h="21600">
                <a:moveTo>
                  <a:pt x="0" y="0"/>
                </a:moveTo>
                <a:lnTo>
                  <a:pt x="69116" y="0"/>
                </a:lnTo>
                <a:lnTo>
                  <a:pt x="69116" y="21600"/>
                </a:lnTo>
                <a:lnTo>
                  <a:pt x="0" y="21600"/>
                </a:lnTo>
                <a:close/>
              </a:path>
              <a:path fill="lightenLess" w="69116" h="21600">
                <a:moveTo>
                  <a:pt x="0" y="0"/>
                </a:moveTo>
                <a:lnTo>
                  <a:pt x="69116" y="0"/>
                </a:lnTo>
                <a:lnTo>
                  <a:pt x="67716" y="1400"/>
                </a:lnTo>
                <a:lnTo>
                  <a:pt x="1400" y="1400"/>
                </a:lnTo>
                <a:close/>
              </a:path>
              <a:path fill="darken" w="69116" h="21600">
                <a:moveTo>
                  <a:pt x="69116" y="0"/>
                </a:moveTo>
                <a:lnTo>
                  <a:pt x="69116" y="21600"/>
                </a:lnTo>
                <a:lnTo>
                  <a:pt x="67716" y="20200"/>
                </a:lnTo>
                <a:lnTo>
                  <a:pt x="67716" y="1400"/>
                </a:lnTo>
                <a:close/>
              </a:path>
              <a:path fill="darkenLess" w="69116" h="21600">
                <a:moveTo>
                  <a:pt x="69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16" y="20200"/>
                </a:lnTo>
                <a:close/>
              </a:path>
              <a:path fill="lighten" w="69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>
            <a:hlinkClick r:id="rId6" action="ppaction://hlinksldjump"/>
          </p:cNvPr>
          <p:cNvSpPr/>
          <p:nvPr/>
        </p:nvSpPr>
        <p:spPr>
          <a:xfrm>
            <a:off x="3124080" y="3505320"/>
            <a:ext cx="2438640" cy="761760"/>
          </a:xfrm>
          <a:custGeom>
            <a:avLst/>
            <a:gdLst>
              <a:gd name="textAreaLeft" fmla="*/ 49320 w 2438640"/>
              <a:gd name="textAreaRight" fmla="*/ 2389320 w 24386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9126" h="21600">
                <a:moveTo>
                  <a:pt x="0" y="0"/>
                </a:moveTo>
                <a:lnTo>
                  <a:pt x="69126" y="0"/>
                </a:lnTo>
                <a:lnTo>
                  <a:pt x="69126" y="21600"/>
                </a:lnTo>
                <a:lnTo>
                  <a:pt x="0" y="21600"/>
                </a:lnTo>
                <a:close/>
              </a:path>
              <a:path fill="lightenLess" w="69126" h="21600">
                <a:moveTo>
                  <a:pt x="0" y="0"/>
                </a:moveTo>
                <a:lnTo>
                  <a:pt x="69126" y="0"/>
                </a:lnTo>
                <a:lnTo>
                  <a:pt x="67726" y="1400"/>
                </a:lnTo>
                <a:lnTo>
                  <a:pt x="1400" y="1400"/>
                </a:lnTo>
                <a:close/>
              </a:path>
              <a:path fill="darken" w="69126" h="21600">
                <a:moveTo>
                  <a:pt x="69126" y="0"/>
                </a:moveTo>
                <a:lnTo>
                  <a:pt x="69126" y="21600"/>
                </a:lnTo>
                <a:lnTo>
                  <a:pt x="67726" y="20200"/>
                </a:lnTo>
                <a:lnTo>
                  <a:pt x="67726" y="1400"/>
                </a:lnTo>
                <a:close/>
              </a:path>
              <a:path fill="darkenLess" w="69126" h="21600">
                <a:moveTo>
                  <a:pt x="69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26" y="20200"/>
                </a:lnTo>
                <a:close/>
              </a:path>
              <a:path fill="lighten" w="69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3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>
            <a:hlinkClick r:id="" action="ppaction://hlinkshowjump?jump=previousslide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0" y="19810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 is iron and iron is in Group VIII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371600" y="3200400"/>
            <a:ext cx="7391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trate is a polyatomic ion, 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523880" y="48006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I know because I memorized 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0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>
            <a:hlinkClick r:id="rId1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33520" y="1905120"/>
            <a:ext cx="86104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means a polyatomic ion containing three ntrogens and 9 oxyge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514600" y="365760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NOT the same as 3 nitrate 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6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>
            <a:hlinkClick r:id="rId1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62120" y="2438280"/>
            <a:ext cx="78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trate is 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9T20:22:40Z</dcterms:created>
  <dc:creator>GerowI</dc:creator>
  <dc:description/>
  <dc:language>en-US</dc:language>
  <cp:lastModifiedBy>Preferred Customer</cp:lastModifiedBy>
  <dcterms:modified xsi:type="dcterms:W3CDTF">2002-11-05T02:39:14Z</dcterms:modified>
  <cp:revision>34</cp:revision>
  <dc:subject/>
  <dc:title>Chemical Bonding</dc:title>
</cp:coreProperties>
</file>